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8C7C-9051-440F-8F28-564923EA6F9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993F-66B2-4396-93F1-B9651256FE1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A0E8-8D7A-46B6-A975-1ECE8567ED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8EB8-E42A-466E-A4CC-2E5486FA726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33BE-340A-433E-B108-53438CB551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2B19-298A-4910-A82E-391FEBF401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E8BB-D0E2-4360-8116-1E0CDC2A1DF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A23F-48B4-44B8-B64E-C021F63EDC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708A-BF94-409B-A6E2-666C3281630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468360" cy="506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7E0B-CEB8-437A-BA39-7FED397F5833}" type="slidenum">
              <a:rPr b="1" lang="it-IT" sz="20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 rot="16200000">
            <a:off x="-2330280" y="3039840"/>
            <a:ext cx="50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te di Orientamento di Treviso – 2012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01480" y="457200"/>
            <a:ext cx="8604360" cy="6516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00ff99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514440" y="66600"/>
            <a:ext cx="5467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gliere in modo r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01480" y="457200"/>
            <a:ext cx="8604360" cy="6516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00ff99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 rot="16200000">
            <a:off x="-2574000" y="346932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ientamento Scolastico Profes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0" y="0"/>
            <a:ext cx="468360" cy="506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0BC5-F8FB-4ECA-89F3-BAD279DEBE65}" type="slidenum">
              <a:rPr b="1" lang="it-IT" sz="2000" spc="-1" strike="noStrike">
                <a:solidFill>
                  <a:srgbClr val="ff33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60440" y="580320"/>
            <a:ext cx="86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Orientamento scolastico-professionale: fasi della sc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93560" y="1320840"/>
            <a:ext cx="8487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attività di Orientamento puntano all’incremento della abilità implicate nel processo di scelta. In partic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ccolta delle informazioni su se stessi e il “mondo estern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tilizzo di strategie razionali di sce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anificazione e realizzazione delle decisioni assu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tazione della scelta effettu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60440" y="580320"/>
            <a:ext cx="86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sa significa scegl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1"/>
          <p:cNvSpPr/>
          <p:nvPr/>
        </p:nvSpPr>
        <p:spPr>
          <a:xfrm>
            <a:off x="514440" y="10857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gl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2"/>
          <p:cNvSpPr/>
          <p:nvPr/>
        </p:nvSpPr>
        <p:spPr>
          <a:xfrm>
            <a:off x="460440" y="4009320"/>
            <a:ext cx="86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ratteristiche di una scelta compl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3"/>
          <p:cNvSpPr/>
          <p:nvPr/>
        </p:nvSpPr>
        <p:spPr>
          <a:xfrm>
            <a:off x="514440" y="4686480"/>
            <a:ext cx="8238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e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te caratteristiche da esamin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 conseguenze in caso di scelta sbagl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4"/>
          <p:cNvSpPr/>
          <p:nvPr/>
        </p:nvSpPr>
        <p:spPr>
          <a:xfrm>
            <a:off x="2828880" y="1943280"/>
            <a:ext cx="5010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olvere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ggiungere un 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ddisfare un biso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5"/>
          <p:cNvSpPr/>
          <p:nvPr/>
        </p:nvSpPr>
        <p:spPr>
          <a:xfrm>
            <a:off x="2724120" y="1085760"/>
            <a:ext cx="61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re l’opzione migliore tra due o più alternative p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6"/>
          <p:cNvSpPr/>
          <p:nvPr/>
        </p:nvSpPr>
        <p:spPr>
          <a:xfrm>
            <a:off x="2181240" y="1190520"/>
            <a:ext cx="419040" cy="314280"/>
          </a:xfrm>
          <a:custGeom>
            <a:avLst/>
            <a:gdLst>
              <a:gd name="textAreaLeft" fmla="*/ 65520 w 419040"/>
              <a:gd name="textAreaRight" fmla="*/ 366840 w 419040"/>
              <a:gd name="textAreaTop" fmla="*/ 78480 h 314280"/>
              <a:gd name="textAreaBottom" fmla="*/ 235800 h 314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790030"/>
              </a:gs>
              <a:gs pos="50000">
                <a:srgbClr val="ff0066"/>
              </a:gs>
              <a:gs pos="100000">
                <a:srgbClr val="790030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60440" y="580320"/>
            <a:ext cx="86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li stili decisionali degli adolescenti [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di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19200" y="1406520"/>
          <a:ext cx="8058240" cy="1684440"/>
        </p:xfrm>
        <a:graphic>
          <a:graphicData uri="http://schemas.openxmlformats.org/drawingml/2006/table">
            <a:tbl>
              <a:tblPr/>
              <a:tblGrid>
                <a:gridCol w="2657520"/>
                <a:gridCol w="5400720"/>
              </a:tblGrid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Vigil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e delle persone che si prospettano un’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mpia gamma di alternativ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che valutano obiettivamente i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 i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tr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 ciascuna di esse prima di sceglie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AutoShape 13"/>
          <p:cNvSpPr/>
          <p:nvPr/>
        </p:nvSpPr>
        <p:spPr>
          <a:xfrm>
            <a:off x="2676600" y="2095560"/>
            <a:ext cx="419040" cy="314280"/>
          </a:xfrm>
          <a:custGeom>
            <a:avLst/>
            <a:gdLst>
              <a:gd name="textAreaLeft" fmla="*/ 65520 w 419040"/>
              <a:gd name="textAreaRight" fmla="*/ 366840 w 419040"/>
              <a:gd name="textAreaTop" fmla="*/ 78480 h 314280"/>
              <a:gd name="textAreaBottom" fmla="*/ 235800 h 314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7dcb7d"/>
              </a:gs>
              <a:gs pos="100000">
                <a:srgbClr val="009900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2724120" y="4552920"/>
            <a:ext cx="419040" cy="314280"/>
          </a:xfrm>
          <a:custGeom>
            <a:avLst/>
            <a:gdLst>
              <a:gd name="textAreaLeft" fmla="*/ 65520 w 419040"/>
              <a:gd name="textAreaRight" fmla="*/ 366840 w 419040"/>
              <a:gd name="textAreaTop" fmla="*/ 78480 h 314280"/>
              <a:gd name="textAreaBottom" fmla="*/ 235800 h 314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7dcb7d"/>
              </a:gs>
              <a:gs pos="100000">
                <a:srgbClr val="009900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66720" y="3743280"/>
          <a:ext cx="8058240" cy="1814400"/>
        </p:xfrm>
        <a:graphic>
          <a:graphicData uri="http://schemas.openxmlformats.org/drawingml/2006/table">
            <a:tbl>
              <a:tblPr/>
              <a:tblGrid>
                <a:gridCol w="2657520"/>
                <a:gridCol w="5400720"/>
              </a:tblGrid>
              <a:tr h="18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Ipervigil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e delle persone che scelgono in modo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ettolos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 scaricare lo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res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 disimpegnarsi dal dilemm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26"/>
          <p:cNvSpPr/>
          <p:nvPr/>
        </p:nvSpPr>
        <p:spPr>
          <a:xfrm>
            <a:off x="7061040" y="634212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Janis e Mann, 1977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460440" y="580320"/>
            <a:ext cx="86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li stili decisionali degli adolescenti [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di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19200" y="1406520"/>
          <a:ext cx="8058240" cy="1684440"/>
        </p:xfrm>
        <a:graphic>
          <a:graphicData uri="http://schemas.openxmlformats.org/drawingml/2006/table">
            <a:tbl>
              <a:tblPr/>
              <a:tblGrid>
                <a:gridCol w="2657520"/>
                <a:gridCol w="5400720"/>
              </a:tblGrid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Evitamento     difens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e delle persone che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uggono dal problema decisional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“rinviando a domani”, scaricando la responsabilità della scelta, giustificando con falsi argomenti l’alternativa prescelt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AutoShape 12"/>
          <p:cNvSpPr/>
          <p:nvPr/>
        </p:nvSpPr>
        <p:spPr>
          <a:xfrm>
            <a:off x="2676600" y="2095560"/>
            <a:ext cx="419040" cy="314280"/>
          </a:xfrm>
          <a:custGeom>
            <a:avLst/>
            <a:gdLst>
              <a:gd name="textAreaLeft" fmla="*/ 65520 w 419040"/>
              <a:gd name="textAreaRight" fmla="*/ 366840 w 419040"/>
              <a:gd name="textAreaTop" fmla="*/ 78480 h 314280"/>
              <a:gd name="textAreaBottom" fmla="*/ 235800 h 314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7dcb7d"/>
              </a:gs>
              <a:gs pos="100000">
                <a:srgbClr val="009900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>
            <a:off x="2724120" y="4552920"/>
            <a:ext cx="419040" cy="314280"/>
          </a:xfrm>
          <a:custGeom>
            <a:avLst/>
            <a:gdLst>
              <a:gd name="textAreaLeft" fmla="*/ 65520 w 419040"/>
              <a:gd name="textAreaRight" fmla="*/ 366840 w 419040"/>
              <a:gd name="textAreaTop" fmla="*/ 78480 h 314280"/>
              <a:gd name="textAreaBottom" fmla="*/ 235800 h 314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7dcb7d"/>
              </a:gs>
              <a:gs pos="100000">
                <a:srgbClr val="009900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66720" y="3743280"/>
          <a:ext cx="8058240" cy="1814400"/>
        </p:xfrm>
        <a:graphic>
          <a:graphicData uri="http://schemas.openxmlformats.org/drawingml/2006/table">
            <a:tbl>
              <a:tblPr/>
              <a:tblGrid>
                <a:gridCol w="2657520"/>
                <a:gridCol w="5400720"/>
              </a:tblGrid>
              <a:tr h="18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Compiac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e delle persone che risolvono il problema o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gnorandol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 adottando la soluzione che “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rea meno fastidi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 a sé e agli altr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25"/>
          <p:cNvSpPr/>
          <p:nvPr/>
        </p:nvSpPr>
        <p:spPr>
          <a:xfrm>
            <a:off x="7061040" y="634212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Janis e Mann, 1977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60440" y="580320"/>
            <a:ext cx="86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 trappole cognitive [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di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466560" y="1203480"/>
            <a:ext cx="82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gn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iorno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ut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 persone prendono decisioni e compiono scel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"/>
          <p:cNvSpPr/>
          <p:nvPr/>
        </p:nvSpPr>
        <p:spPr>
          <a:xfrm>
            <a:off x="466560" y="1851120"/>
            <a:ext cx="82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ll’affrontare questi compiti è assolutamente normale usare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egole pratic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e semplificano il processo di scelta: me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e meno sforzo men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466560" y="3089160"/>
            <a:ext cx="82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 nelle scelte più complesse le regole pratiche qualche vol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ono farci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adere in trappo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60440" y="580320"/>
            <a:ext cx="86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 trappole cognitive [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di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19480" y="1619280"/>
          <a:ext cx="5400720" cy="206856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207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L’allievo/l’allieva compie la scelta della scuola superi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endo conto (solamente) degli aspetti “migliori” di un Istituto così come sono stati presentati durante le giornate di “Scuola Aperta”, negli opuscoli informativi, nelle pubblicità e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17"/>
          <p:cNvSpPr/>
          <p:nvPr/>
        </p:nvSpPr>
        <p:spPr>
          <a:xfrm>
            <a:off x="466560" y="993600"/>
            <a:ext cx="82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333399"/>
                </a:solidFill>
                <a:latin typeface="Arial"/>
              </a:rPr>
              <a:t>Incorniciamento della sce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5"/>
          <p:cNvSpPr/>
          <p:nvPr/>
        </p:nvSpPr>
        <p:spPr>
          <a:xfrm>
            <a:off x="428760" y="3994200"/>
            <a:ext cx="82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Non rinuncia al poss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47920" y="4638600"/>
          <a:ext cx="5400720" cy="181476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81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L’allievo/l’allieva compie la scelta della scuola superi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tando attenzione (solamente) a quella scuola che fin da piccolo ha sempre desiderato frequentare o che è stata frequentata da un genitore, dal fratello o dalla sorella e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40" descr=""/>
          <p:cNvPicPr/>
          <p:nvPr/>
        </p:nvPicPr>
        <p:blipFill>
          <a:blip r:embed="rId3"/>
          <a:stretch/>
        </p:blipFill>
        <p:spPr>
          <a:xfrm>
            <a:off x="814320" y="1719360"/>
            <a:ext cx="2009880" cy="200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1" descr=""/>
          <p:cNvPicPr/>
          <p:nvPr/>
        </p:nvPicPr>
        <p:blipFill>
          <a:blip r:embed="rId4"/>
          <a:stretch/>
        </p:blipFill>
        <p:spPr>
          <a:xfrm>
            <a:off x="1057320" y="4533840"/>
            <a:ext cx="1866960" cy="2076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60440" y="580320"/>
            <a:ext cx="86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 trappole cognitive [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di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19480" y="1619280"/>
          <a:ext cx="5400720" cy="206856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207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L’allievo/l’allieva dopo aver compiuto la scelta della scuola superi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accorge di trovarsi in difficoltà ma non riconsidera la scelta effettuata in quanto ritiene di aver ormai investito molto in quella scuola [libri e materiali, amicizie, rapporti positivi con qualche insegnante ecc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9"/>
          <p:cNvSpPr/>
          <p:nvPr/>
        </p:nvSpPr>
        <p:spPr>
          <a:xfrm>
            <a:off x="466560" y="993600"/>
            <a:ext cx="82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sti affond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28760" y="3994200"/>
            <a:ext cx="82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ncor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7920" y="4638600"/>
          <a:ext cx="5400720" cy="206856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207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L’allievo/l’allieva compie la scelta della scuola superi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endo riferimento (solamente) alle indicazioni sulle sue attitudini, capacità o competenze formulate da insegnanti, genitori o amici [a volte frutto di sottovalutazione o sopravalutazione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4" descr=""/>
          <p:cNvPicPr/>
          <p:nvPr/>
        </p:nvPicPr>
        <p:blipFill>
          <a:blip r:embed="rId3"/>
          <a:stretch/>
        </p:blipFill>
        <p:spPr>
          <a:xfrm>
            <a:off x="609480" y="1986120"/>
            <a:ext cx="2533680" cy="141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5" descr=""/>
          <p:cNvPicPr/>
          <p:nvPr/>
        </p:nvPicPr>
        <p:blipFill>
          <a:blip r:embed="rId4"/>
          <a:stretch/>
        </p:blipFill>
        <p:spPr>
          <a:xfrm>
            <a:off x="1076400" y="4714920"/>
            <a:ext cx="1371600" cy="1771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60440" y="580320"/>
            <a:ext cx="86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 trappole cognitive [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di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19480" y="1619280"/>
          <a:ext cx="5400720" cy="206856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207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L’allievo/l’allieva compie la scelta della scuola superi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rtire (solamente) dal ricordo di un aspetto di una scuola che lo/la ha particolarmente colpito/colpita (novità tecnologica, cura estetica ecc.) oppure dell’ultima scuola visitata o studia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9"/>
          <p:cNvSpPr/>
          <p:nvPr/>
        </p:nvSpPr>
        <p:spPr>
          <a:xfrm>
            <a:off x="466560" y="993600"/>
            <a:ext cx="82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ponibilità dell’in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28760" y="3994200"/>
            <a:ext cx="82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appresenta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7920" y="4638600"/>
          <a:ext cx="5400720" cy="181476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81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cc"/>
                          </a:solidFill>
                          <a:latin typeface="Arial"/>
                        </a:rPr>
                        <a:t>L’allievo/l’allieva compie la scelta della scuola superi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la base (solamente) di una “idea” della scuola che si è formata nel tempo o che gli/le è stata trasmessa dai genitori, dagli insegnanti e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Picture 28" descr=""/>
          <p:cNvPicPr/>
          <p:nvPr/>
        </p:nvPicPr>
        <p:blipFill>
          <a:blip r:embed="rId3"/>
          <a:stretch/>
        </p:blipFill>
        <p:spPr>
          <a:xfrm>
            <a:off x="538200" y="1871640"/>
            <a:ext cx="2695680" cy="138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"/>
          <p:cNvPicPr/>
          <p:nvPr/>
        </p:nvPicPr>
        <p:blipFill>
          <a:blip r:embed="rId4"/>
          <a:stretch/>
        </p:blipFill>
        <p:spPr>
          <a:xfrm>
            <a:off x="519120" y="4791240"/>
            <a:ext cx="2695680" cy="1333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8:44:51Z</dcterms:created>
  <dc:creator>sante.velo</dc:creator>
  <dc:description/>
  <dc:language>en-US</dc:language>
  <cp:lastModifiedBy>Renato</cp:lastModifiedBy>
  <dcterms:modified xsi:type="dcterms:W3CDTF">2014-04-07T08:26:10Z</dcterms:modified>
  <cp:revision>112</cp:revision>
  <dc:subject/>
  <dc:title>Diapositiva 1</dc:title>
</cp:coreProperties>
</file>