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BE5-360E-47C9-90F3-EB390AFC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25C-8073-4A18-99EA-9A9B5880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AF6-8235-4BD0-B443-6B0217A5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976-3A6D-4F47-A31E-BEAD5F85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BAD1-1CB2-43B1-BD0B-816EA0AF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F3E2-AC81-4638-8504-4A451B0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8DE3-E405-49C5-B16D-A75EB72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9BF0-D739-4436-B96A-0E4B8E7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78C-23DB-41FC-9EF9-B928EF1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ED50-9063-4187-80C8-452AFBEC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A425-66E7-4B67-8F50-DD55C01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CCA-7D19-46E0-AC25-15021A5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082D-F67C-4445-A08A-63913B4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EDF5-EAD5-40EF-9D69-FDB9730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6C6-1153-42E8-8D96-A3D4C49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97C8-0A28-463A-A0B4-EB44986B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3ED-6725-4AB7-BEA6-8D7E058A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F12E-BA87-4580-8E3A-2BBDB4B8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93A8-0EE4-432A-BB50-3EA5DA7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56C1-F353-40AC-8399-A80FE93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9267-443B-45F5-A69A-9289ABA6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505D-7816-4896-95CD-F223F33F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03C-DE55-401E-8EE5-2B6AE81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CB2A-809D-497B-A052-C64E4FFF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A24B-D102-429C-9F95-FBB318D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E89D-2193-43E3-AD96-63D5C7F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F5A6-603A-4ABB-AA8F-50F8432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2E97-CA6A-4BB5-A521-1CF1D665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FCC6-303E-4335-B2F0-8A2C19ED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000D-314A-4340-B476-0680802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943A-8BCC-4CD7-8F6F-E51503C2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A8E9-4B9A-4942-B1F8-9ED67A9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BBD2-6785-4546-82BF-354968CA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068-5A4D-4048-A8BD-9CC5AD9A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BD50-5E66-471B-B5F6-BBD732A8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17B4-02F2-42DC-B37E-9426CC2C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2054-5638-4776-B341-DE7A601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2C3B-CF8A-4FAF-AE9D-5E6C86F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81B1-6040-4A6F-882E-EA8729A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A198-765D-4125-BC2A-A1CE6B1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02B1-DDDA-475B-87B3-F8D29EE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41BA-04E0-4772-AFED-23EBD704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D3B5-269B-466E-900C-E0DD0F77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E56-BA13-4E0A-8DBC-EE0CCCF0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092-540A-4A89-99DE-5C1260E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0E9-DAAF-44E9-B06F-537573C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E5B-3A93-4407-980D-608BDC0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ED2-DCF8-4EEA-ABCB-D042BD6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519-9FAE-4604-A68C-C0E57B6066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7"/>
          <p:cNvSpPr/>
          <p:nvPr/>
        </p:nvSpPr>
        <p:spPr>
          <a:xfrm>
            <a:off x="0" y="-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te di Vittorio Ven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getto – Dalla formazione personale alla formazione professionale: verso l’autoorientamento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8"/>
          <p:cNvSpPr/>
          <p:nvPr/>
        </p:nvSpPr>
        <p:spPr>
          <a:xfrm>
            <a:off x="0" y="6557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cura di R. Tomasella – S. V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arrotondato 1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ettangolo arrotondato 13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9" name="Rettangolo arrotondato 13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D96-C21B-46D8-BC18-C691D94C41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tangolo arrotondato 1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ttangolo arrotondato 13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4" name="Rettangolo arrotondato 13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0C96-CE25-4886-802A-A537DD30884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tangolo arrotondato 1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rotonda singolo angolo rettangolo 13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EDC4-3ADC-4767-B8FB-96E95D8FCA8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539640" y="5493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1. Le tipologie di occupazioni: l’esagono di Hol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0"/>
          <p:cNvGrpSpPr/>
          <p:nvPr/>
        </p:nvGrpSpPr>
        <p:grpSpPr>
          <a:xfrm>
            <a:off x="34920" y="2205000"/>
            <a:ext cx="8929800" cy="4184640"/>
            <a:chOff x="34920" y="2205000"/>
            <a:chExt cx="8929800" cy="4184640"/>
          </a:xfrm>
        </p:grpSpPr>
        <p:sp>
          <p:nvSpPr>
            <p:cNvPr id="182" name="Text Box 8"/>
            <p:cNvSpPr/>
            <p:nvPr/>
          </p:nvSpPr>
          <p:spPr>
            <a:xfrm>
              <a:off x="34920" y="40705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onvenzio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9"/>
            <p:cNvGrpSpPr/>
            <p:nvPr/>
          </p:nvGrpSpPr>
          <p:grpSpPr>
            <a:xfrm>
              <a:off x="900000" y="2205000"/>
              <a:ext cx="8064720" cy="4184640"/>
              <a:chOff x="900000" y="2205000"/>
              <a:chExt cx="8064720" cy="4184640"/>
            </a:xfrm>
          </p:grpSpPr>
          <p:sp>
            <p:nvSpPr>
              <p:cNvPr id="184" name="AutoShape 5"/>
              <p:cNvSpPr/>
              <p:nvPr/>
            </p:nvSpPr>
            <p:spPr>
              <a:xfrm>
                <a:off x="2629080" y="2563920"/>
                <a:ext cx="4103640" cy="3457440"/>
              </a:xfrm>
              <a:prstGeom prst="hexagon">
                <a:avLst>
                  <a:gd name="adj" fmla="val 29673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6"/>
              <p:cNvSpPr/>
              <p:nvPr/>
            </p:nvSpPr>
            <p:spPr>
              <a:xfrm>
                <a:off x="1116000" y="22050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Realist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"/>
              <p:cNvSpPr/>
              <p:nvPr/>
            </p:nvSpPr>
            <p:spPr>
              <a:xfrm>
                <a:off x="6012000" y="220500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Investigativ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"/>
              <p:cNvSpPr/>
              <p:nvPr/>
            </p:nvSpPr>
            <p:spPr>
              <a:xfrm>
                <a:off x="7093080" y="407052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Artist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0"/>
              <p:cNvSpPr/>
              <p:nvPr/>
            </p:nvSpPr>
            <p:spPr>
              <a:xfrm>
                <a:off x="900000" y="6021360"/>
                <a:ext cx="234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Intraprend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1"/>
              <p:cNvSpPr/>
              <p:nvPr/>
            </p:nvSpPr>
            <p:spPr>
              <a:xfrm>
                <a:off x="6012000" y="602136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ocia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2"/>
              <p:cNvSpPr/>
              <p:nvPr/>
            </p:nvSpPr>
            <p:spPr>
              <a:xfrm>
                <a:off x="3274920" y="2276640"/>
                <a:ext cx="793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it-IT" sz="2400" spc="-1" strike="noStrike">
                    <a:solidFill>
                      <a:srgbClr val="0000cc"/>
                    </a:solidFill>
                    <a:latin typeface="Arial"/>
                  </a:rPr>
                  <a:t>R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3"/>
              <p:cNvSpPr/>
              <p:nvPr/>
            </p:nvSpPr>
            <p:spPr>
              <a:xfrm>
                <a:off x="5364000" y="2276640"/>
                <a:ext cx="6480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it-IT" sz="2400" spc="-1" strike="noStrike">
                    <a:solidFill>
                      <a:srgbClr val="0000cc"/>
                    </a:solidFill>
                    <a:latin typeface="Arial"/>
                  </a:rPr>
                  <a:t>I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4"/>
              <p:cNvSpPr/>
              <p:nvPr/>
            </p:nvSpPr>
            <p:spPr>
              <a:xfrm>
                <a:off x="2340000" y="4005360"/>
                <a:ext cx="793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it-IT" sz="2400" spc="-1" strike="noStrike">
                    <a:solidFill>
                      <a:srgbClr val="0000cc"/>
                    </a:solidFill>
                    <a:latin typeface="Arial"/>
                  </a:rPr>
                  <a:t>C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5"/>
              <p:cNvSpPr/>
              <p:nvPr/>
            </p:nvSpPr>
            <p:spPr>
              <a:xfrm>
                <a:off x="6300720" y="4005360"/>
                <a:ext cx="793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it-IT" sz="2400" spc="-1" strike="noStrike">
                    <a:solidFill>
                      <a:srgbClr val="0000cc"/>
                    </a:solidFill>
                    <a:latin typeface="Arial"/>
                  </a:rPr>
                  <a:t>A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6"/>
              <p:cNvSpPr/>
              <p:nvPr/>
            </p:nvSpPr>
            <p:spPr>
              <a:xfrm>
                <a:off x="3274920" y="5734080"/>
                <a:ext cx="793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it-IT" sz="2400" spc="-1" strike="noStrike">
                    <a:solidFill>
                      <a:srgbClr val="0000cc"/>
                    </a:solidFill>
                    <a:latin typeface="Arial"/>
                  </a:rPr>
                  <a:t>E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17"/>
              <p:cNvSpPr/>
              <p:nvPr/>
            </p:nvSpPr>
            <p:spPr>
              <a:xfrm>
                <a:off x="5291280" y="5734080"/>
                <a:ext cx="7934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it-IT" sz="2400" spc="-1" strike="noStrike">
                    <a:solidFill>
                      <a:srgbClr val="0000cc"/>
                    </a:solidFill>
                    <a:latin typeface="Arial"/>
                  </a:rPr>
                  <a:t>S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18"/>
          <p:cNvSpPr/>
          <p:nvPr/>
        </p:nvSpPr>
        <p:spPr>
          <a:xfrm>
            <a:off x="539640" y="98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olland utilizza uno schema esagonale, con sei vertici diversi, per organizzare il mondo del lavoro. Ogni vertice dell’esagono corrisponde ad una tipologia di occupazioni con un particolare 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6" descr="LOGO_ORIENT1"/>
          <p:cNvPicPr/>
          <p:nvPr/>
        </p:nvPicPr>
        <p:blipFill>
          <a:blip r:embed="rId1"/>
          <a:stretch/>
        </p:blipFill>
        <p:spPr>
          <a:xfrm>
            <a:off x="3708360" y="3645000"/>
            <a:ext cx="2025720" cy="93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539640" y="54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2. Le tipologie di occupazion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rea REALISTICA [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324000" y="1341360"/>
            <a:ext cx="4392000" cy="5111640"/>
            <a:chOff x="324000" y="1341360"/>
            <a:chExt cx="4392000" cy="5111640"/>
          </a:xfrm>
        </p:grpSpPr>
        <p:sp>
          <p:nvSpPr>
            <p:cNvPr id="200" name="Line 19"/>
            <p:cNvSpPr/>
            <p:nvPr/>
          </p:nvSpPr>
          <p:spPr>
            <a:xfrm>
              <a:off x="4716000" y="1409760"/>
              <a:ext cx="0" cy="5043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324000" y="1341360"/>
              <a:ext cx="4391640" cy="4452120"/>
              <a:chOff x="324000" y="1341360"/>
              <a:chExt cx="4391640" cy="4452120"/>
            </a:xfrm>
          </p:grpSpPr>
          <p:sp>
            <p:nvSpPr>
              <p:cNvPr id="202" name="Text Box 16"/>
              <p:cNvSpPr/>
              <p:nvPr/>
            </p:nvSpPr>
            <p:spPr>
              <a:xfrm>
                <a:off x="397440" y="1341360"/>
                <a:ext cx="4318200" cy="32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800" spc="-1" strike="noStrike">
                    <a:solidFill>
                      <a:srgbClr val="0000cc"/>
                    </a:solidFill>
                    <a:latin typeface="Arial"/>
                  </a:rPr>
                  <a:t>Caratteristiche delle pers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 generale, le persone che sono attratte dalle occupazioni realistiche tendono ad essere orientate verso lavori “meccanici”. Abbastanza spesso preferiscono un’occupazione che coinvolge l’utilizzo di macchine, strumenti o strumentazione tecnica per eseguire il lavoro. Sono di solito i tipi di individui che amano immergere le mani nel proprio lavoro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18"/>
              <p:cNvSpPr/>
              <p:nvPr/>
            </p:nvSpPr>
            <p:spPr>
              <a:xfrm>
                <a:off x="397440" y="4602240"/>
                <a:ext cx="4318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ono persone, inoltre, attive fisicamente e preferiscono occupazioni che si svolgono all’aperto e sono attratte da attività che richiedono sforzi fisic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324000" y="1685520"/>
                <a:ext cx="4094640" cy="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24"/>
          <p:cNvGrpSpPr/>
          <p:nvPr/>
        </p:nvGrpSpPr>
        <p:grpSpPr>
          <a:xfrm>
            <a:off x="4788000" y="1341360"/>
            <a:ext cx="3887640" cy="4156560"/>
            <a:chOff x="4788000" y="1341360"/>
            <a:chExt cx="3887640" cy="4156560"/>
          </a:xfrm>
        </p:grpSpPr>
        <p:sp>
          <p:nvSpPr>
            <p:cNvPr id="206" name="Text Box 17"/>
            <p:cNvSpPr/>
            <p:nvPr/>
          </p:nvSpPr>
          <p:spPr>
            <a:xfrm>
              <a:off x="4788000" y="1341360"/>
              <a:ext cx="3887640" cy="41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Esempi di profess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diliz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ipar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ecis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mmer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grico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cienze anim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tettura di paesagg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4857120" y="1700280"/>
              <a:ext cx="375048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96" descr="LOGO_ORIENT1"/>
          <p:cNvPicPr/>
          <p:nvPr/>
        </p:nvPicPr>
        <p:blipFill>
          <a:blip r:embed="rId1"/>
          <a:stretch/>
        </p:blipFill>
        <p:spPr>
          <a:xfrm>
            <a:off x="7308720" y="5732640"/>
            <a:ext cx="1432080" cy="663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11280" y="5493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3. Le tipologie di occupazion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rea INVESTIGATIVA 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539640" y="1268280"/>
            <a:ext cx="4032360" cy="5327640"/>
            <a:chOff x="539640" y="1268280"/>
            <a:chExt cx="4032360" cy="5327640"/>
          </a:xfrm>
        </p:grpSpPr>
        <p:sp>
          <p:nvSpPr>
            <p:cNvPr id="211" name="Text Box 3"/>
            <p:cNvSpPr/>
            <p:nvPr/>
          </p:nvSpPr>
          <p:spPr>
            <a:xfrm>
              <a:off x="539640" y="1268280"/>
              <a:ext cx="376668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Caratteristiche delle pers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eneralmente le persone attratte dalle professioni investigative sono interessate ad esercitare lavori che prevedono un alto grado di processi analitici e di ricer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"/>
            <p:cNvSpPr/>
            <p:nvPr/>
          </p:nvSpPr>
          <p:spPr>
            <a:xfrm>
              <a:off x="4572000" y="1339920"/>
              <a:ext cx="0" cy="525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672480" y="1627200"/>
              <a:ext cx="363564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"/>
          <p:cNvGrpSpPr/>
          <p:nvPr/>
        </p:nvGrpSpPr>
        <p:grpSpPr>
          <a:xfrm>
            <a:off x="4788000" y="1268280"/>
            <a:ext cx="3638520" cy="4827600"/>
            <a:chOff x="4788000" y="1268280"/>
            <a:chExt cx="3638520" cy="4827600"/>
          </a:xfrm>
        </p:grpSpPr>
        <p:sp>
          <p:nvSpPr>
            <p:cNvPr id="215" name="Text Box 4"/>
            <p:cNvSpPr/>
            <p:nvPr/>
          </p:nvSpPr>
          <p:spPr>
            <a:xfrm>
              <a:off x="4788000" y="1268280"/>
              <a:ext cx="363852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Esempi di profess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Occupazioni in ambito scientifico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cienze ambient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tema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iolo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enetica ec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Occupazioni al compute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imento da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gram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nalista di sistema ec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Occupazioni di cura della salute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ecnico radio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fermi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ogopedis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armacista ec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>
              <a:off x="4852440" y="1627200"/>
              <a:ext cx="351000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196" descr="LOGO_ORIENT1"/>
          <p:cNvPicPr/>
          <p:nvPr/>
        </p:nvPicPr>
        <p:blipFill>
          <a:blip r:embed="rId1"/>
          <a:stretch/>
        </p:blipFill>
        <p:spPr>
          <a:xfrm>
            <a:off x="395280" y="5732640"/>
            <a:ext cx="1433520" cy="663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11280" y="6206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4. Le tipologie di occupazion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rea ARTISTICA [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539640" y="1341360"/>
            <a:ext cx="4103640" cy="5040000"/>
            <a:chOff x="539640" y="1341360"/>
            <a:chExt cx="4103640" cy="5040000"/>
          </a:xfrm>
        </p:grpSpPr>
        <p:sp>
          <p:nvSpPr>
            <p:cNvPr id="220" name="Text Box 3"/>
            <p:cNvSpPr/>
            <p:nvPr/>
          </p:nvSpPr>
          <p:spPr>
            <a:xfrm>
              <a:off x="539640" y="1341360"/>
              <a:ext cx="410364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Caratteristiche delle pers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eneralmente le persone che sono attratte dalle professioni artistiche preferiscono un lavoro che sia non strutturato e che permetta loro di proiettare la propria creatività in ess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4643280" y="1409040"/>
              <a:ext cx="0" cy="4972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674640" y="1680840"/>
              <a:ext cx="370008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9"/>
          <p:cNvGrpSpPr/>
          <p:nvPr/>
        </p:nvGrpSpPr>
        <p:grpSpPr>
          <a:xfrm>
            <a:off x="4859280" y="1341360"/>
            <a:ext cx="3673440" cy="2602080"/>
            <a:chOff x="4859280" y="1341360"/>
            <a:chExt cx="3673440" cy="2602080"/>
          </a:xfrm>
        </p:grpSpPr>
        <p:sp>
          <p:nvSpPr>
            <p:cNvPr id="224" name="Text Box 4"/>
            <p:cNvSpPr/>
            <p:nvPr/>
          </p:nvSpPr>
          <p:spPr>
            <a:xfrm>
              <a:off x="4859280" y="1341360"/>
              <a:ext cx="3673440" cy="26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Esempi di profess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ubblic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mmercio di m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segno di inter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ti vis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estazioni artisti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u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cit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>
              <a:off x="4924440" y="1700280"/>
              <a:ext cx="354384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96" descr="LOGO_ORIENT1"/>
          <p:cNvPicPr/>
          <p:nvPr/>
        </p:nvPicPr>
        <p:blipFill>
          <a:blip r:embed="rId1"/>
          <a:stretch/>
        </p:blipFill>
        <p:spPr>
          <a:xfrm>
            <a:off x="3924360" y="4292640"/>
            <a:ext cx="1431720" cy="6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11280" y="685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5. Le tipologie di occupazion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rea SOCIALE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859280" y="1341360"/>
            <a:ext cx="374508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Esempi di profess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ul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sic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mi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i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ccupazioni religi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ienze bibliotec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468360" y="1341360"/>
            <a:ext cx="4248000" cy="5040000"/>
            <a:chOff x="468360" y="1341360"/>
            <a:chExt cx="4248000" cy="5040000"/>
          </a:xfrm>
        </p:grpSpPr>
        <p:sp>
          <p:nvSpPr>
            <p:cNvPr id="230" name="Text Box 3"/>
            <p:cNvSpPr/>
            <p:nvPr/>
          </p:nvSpPr>
          <p:spPr>
            <a:xfrm>
              <a:off x="539640" y="1341360"/>
              <a:ext cx="417672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Caratteristiche delle pers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 persone che sono attratte da percorsi professionali sociali generalmente tendono ad essere interessate a lavori che coinvolgono la promozione della salute, l’educazione e il benessere degli altr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>
              <a:off x="4716360" y="1409040"/>
              <a:ext cx="0" cy="4972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468360" y="1680840"/>
              <a:ext cx="396072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Line 7"/>
          <p:cNvSpPr/>
          <p:nvPr/>
        </p:nvSpPr>
        <p:spPr>
          <a:xfrm>
            <a:off x="4932360" y="1700280"/>
            <a:ext cx="3743280" cy="0"/>
          </a:xfrm>
          <a:prstGeom prst="line">
            <a:avLst/>
          </a:prstGeom>
          <a:ln cap="rnd" w="1908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6" descr="LOGO_ORIENT1"/>
          <p:cNvPicPr/>
          <p:nvPr/>
        </p:nvPicPr>
        <p:blipFill>
          <a:blip r:embed="rId1"/>
          <a:stretch/>
        </p:blipFill>
        <p:spPr>
          <a:xfrm>
            <a:off x="4003560" y="5732640"/>
            <a:ext cx="1432080" cy="663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11280" y="620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6. Le tipologie di occupazion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rea INTRAPRENDENTE [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468360" y="1341360"/>
            <a:ext cx="4103640" cy="5112000"/>
            <a:chOff x="468360" y="1341360"/>
            <a:chExt cx="4103640" cy="5112000"/>
          </a:xfrm>
        </p:grpSpPr>
        <p:sp>
          <p:nvSpPr>
            <p:cNvPr id="237" name="Text Box 3"/>
            <p:cNvSpPr/>
            <p:nvPr/>
          </p:nvSpPr>
          <p:spPr>
            <a:xfrm>
              <a:off x="468360" y="1341360"/>
              <a:ext cx="410364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Caratteristiche delle pers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 persone che sono attratte da percorsi professionali centrati sull’intraprendenza sono motivate nello svolgimento di tali attività dalla ricerca del potere, dalla possibilità di influenzare gli altri e/o dal guadagno economico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>
              <a:off x="4572000" y="1413000"/>
              <a:ext cx="0" cy="504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603360" y="1700280"/>
              <a:ext cx="370008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4859280" y="1341360"/>
            <a:ext cx="3816360" cy="1391040"/>
            <a:chOff x="4859280" y="1341360"/>
            <a:chExt cx="3816360" cy="1391040"/>
          </a:xfrm>
        </p:grpSpPr>
        <p:sp>
          <p:nvSpPr>
            <p:cNvPr id="241" name="Text Box 4"/>
            <p:cNvSpPr/>
            <p:nvPr/>
          </p:nvSpPr>
          <p:spPr>
            <a:xfrm>
              <a:off x="4859280" y="1341360"/>
              <a:ext cx="3816360" cy="13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     </a:t>
              </a: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Esempi di profess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g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ffa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>
              <a:off x="4926960" y="1700280"/>
              <a:ext cx="368172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96" descr="LOGO_ORIENT1"/>
          <p:cNvPicPr/>
          <p:nvPr/>
        </p:nvPicPr>
        <p:blipFill>
          <a:blip r:embed="rId1"/>
          <a:stretch/>
        </p:blipFill>
        <p:spPr>
          <a:xfrm>
            <a:off x="3780000" y="981000"/>
            <a:ext cx="1433520" cy="6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39640" y="620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7. Le tipologie di occupazion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rea CONVENZIONALE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324000" y="1341360"/>
            <a:ext cx="4318920" cy="4966920"/>
            <a:chOff x="324000" y="1341360"/>
            <a:chExt cx="4318920" cy="4966920"/>
          </a:xfrm>
        </p:grpSpPr>
        <p:sp>
          <p:nvSpPr>
            <p:cNvPr id="246" name="Text Box 3"/>
            <p:cNvSpPr/>
            <p:nvPr/>
          </p:nvSpPr>
          <p:spPr>
            <a:xfrm>
              <a:off x="470520" y="1341360"/>
              <a:ext cx="417240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Caratteristiche delle pers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 persone che sono attratte da occupazioni convenzionali di solito amano lavori che implicano struttura, precisione, attenzione ai dettagl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4642920" y="1407960"/>
              <a:ext cx="0" cy="4900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>
              <a:off x="324000" y="1675800"/>
              <a:ext cx="402696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4859280" y="1341360"/>
            <a:ext cx="3745080" cy="1996560"/>
            <a:chOff x="4859280" y="1341360"/>
            <a:chExt cx="3745080" cy="1996560"/>
          </a:xfrm>
        </p:grpSpPr>
        <p:sp>
          <p:nvSpPr>
            <p:cNvPr id="250" name="Text Box 4"/>
            <p:cNvSpPr/>
            <p:nvPr/>
          </p:nvSpPr>
          <p:spPr>
            <a:xfrm>
              <a:off x="4859280" y="1341360"/>
              <a:ext cx="3745080" cy="19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Esempi di profess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ttività amministr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ttività contabi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laborazione dati al 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esura di docum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rvizi finanzia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>
              <a:off x="4925880" y="1700280"/>
              <a:ext cx="3612960" cy="0"/>
            </a:xfrm>
            <a:prstGeom prst="line">
              <a:avLst/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196" descr="LOGO_ORIENT1"/>
          <p:cNvPicPr/>
          <p:nvPr/>
        </p:nvPicPr>
        <p:blipFill>
          <a:blip r:embed="rId1"/>
          <a:stretch/>
        </p:blipFill>
        <p:spPr>
          <a:xfrm>
            <a:off x="7308720" y="5661000"/>
            <a:ext cx="1432080" cy="6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539640" y="620640"/>
            <a:ext cx="799308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persone che conosco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e a due persone importanti per voi e scrive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 lavoro svolgo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a dicono del loro lavo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quale area di occupazione apparteng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466560" y="3063960"/>
            <a:ext cx="4034160" cy="3389400"/>
            <a:chOff x="466560" y="3063960"/>
            <a:chExt cx="4034160" cy="3389400"/>
          </a:xfrm>
        </p:grpSpPr>
        <p:sp>
          <p:nvSpPr>
            <p:cNvPr id="255" name="Text Box 3"/>
            <p:cNvSpPr/>
            <p:nvPr/>
          </p:nvSpPr>
          <p:spPr>
            <a:xfrm>
              <a:off x="466560" y="306684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Persona A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5"/>
            <p:cNvSpPr/>
            <p:nvPr/>
          </p:nvSpPr>
          <p:spPr>
            <a:xfrm>
              <a:off x="4500720" y="3063960"/>
              <a:ext cx="0" cy="3389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"/>
            <p:cNvSpPr/>
            <p:nvPr/>
          </p:nvSpPr>
          <p:spPr>
            <a:xfrm>
              <a:off x="466560" y="515736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Tipologia di occupazion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"/>
            <p:cNvSpPr/>
            <p:nvPr/>
          </p:nvSpPr>
          <p:spPr>
            <a:xfrm>
              <a:off x="466560" y="425628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Cosa dice del lavor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"/>
            <p:cNvSpPr/>
            <p:nvPr/>
          </p:nvSpPr>
          <p:spPr>
            <a:xfrm>
              <a:off x="466560" y="361440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Lavoro svolto</a:t>
              </a: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8"/>
          <p:cNvGrpSpPr/>
          <p:nvPr/>
        </p:nvGrpSpPr>
        <p:grpSpPr>
          <a:xfrm>
            <a:off x="4645080" y="3067200"/>
            <a:ext cx="4101840" cy="2419920"/>
            <a:chOff x="4645080" y="3067200"/>
            <a:chExt cx="4101840" cy="2419920"/>
          </a:xfrm>
        </p:grpSpPr>
        <p:sp>
          <p:nvSpPr>
            <p:cNvPr id="261" name="Text Box 3"/>
            <p:cNvSpPr/>
            <p:nvPr/>
          </p:nvSpPr>
          <p:spPr>
            <a:xfrm>
              <a:off x="4716720" y="3067200"/>
              <a:ext cx="40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cc"/>
                  </a:solidFill>
                  <a:latin typeface="Arial"/>
                </a:rPr>
                <a:t>Persona B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"/>
            <p:cNvSpPr/>
            <p:nvPr/>
          </p:nvSpPr>
          <p:spPr>
            <a:xfrm>
              <a:off x="4645080" y="5118840"/>
              <a:ext cx="40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Tipologia di occupazion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"/>
            <p:cNvSpPr/>
            <p:nvPr/>
          </p:nvSpPr>
          <p:spPr>
            <a:xfrm>
              <a:off x="4716720" y="4256640"/>
              <a:ext cx="40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Cosa dice del lavor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"/>
            <p:cNvSpPr/>
            <p:nvPr/>
          </p:nvSpPr>
          <p:spPr>
            <a:xfrm>
              <a:off x="4716720" y="3614760"/>
              <a:ext cx="40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Lavoro svolto</a:t>
              </a: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Picture 196" descr="LOGO_ORIENT1"/>
          <p:cNvPicPr/>
          <p:nvPr/>
        </p:nvPicPr>
        <p:blipFill>
          <a:blip r:embed="rId1"/>
          <a:stretch/>
        </p:blipFill>
        <p:spPr>
          <a:xfrm>
            <a:off x="684360" y="549360"/>
            <a:ext cx="1431720" cy="6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539640" y="620640"/>
            <a:ext cx="79930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persone che conosco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portate nella tabella di seguito il numero di persone da voi considerate che svolgono lavori appartenenti a ciascuna area di occup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4360" y="2292480"/>
          <a:ext cx="7848360" cy="293688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ea di occup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o di pers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ig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aprend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nz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68" name="Text Box 3"/>
          <p:cNvSpPr/>
          <p:nvPr/>
        </p:nvSpPr>
        <p:spPr>
          <a:xfrm>
            <a:off x="684360" y="5373720"/>
            <a:ext cx="777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2060"/>
                </a:solidFill>
                <a:latin typeface="Arial"/>
              </a:rPr>
              <a:t>Di quali aree occupazionali il nostro gruppo potrebbe approfondire la propria conoscenza? ……………………………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2060"/>
                </a:solidFill>
                <a:latin typeface="Arial"/>
              </a:rPr>
              <a:t>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96" descr="LOGO_ORIENT1"/>
          <p:cNvPicPr/>
          <p:nvPr/>
        </p:nvPicPr>
        <p:blipFill>
          <a:blip r:embed="rId1"/>
          <a:stretch/>
        </p:blipFill>
        <p:spPr>
          <a:xfrm>
            <a:off x="7093080" y="549360"/>
            <a:ext cx="1431720" cy="6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0:07:16Z</dcterms:created>
  <dc:creator>ipsia_9a</dc:creator>
  <dc:description/>
  <dc:language>en-US</dc:language>
  <cp:lastModifiedBy>User</cp:lastModifiedBy>
  <dcterms:modified xsi:type="dcterms:W3CDTF">2014-09-01T16:42:33Z</dcterms:modified>
  <cp:revision>45</cp:revision>
  <dc:subject/>
  <dc:title>Diapositiva 1</dc:title>
</cp:coreProperties>
</file>