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46D-92C7-49EB-8969-991BB625F95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9A0-48C5-448E-AC1A-E785B1D56D1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47F-1922-4B92-B2A1-18AD9EAB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407-88A0-4E2A-861F-B3C4530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AE9-A520-4449-A9D3-E1E76EFD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DA6-BEA1-4CE7-843C-2700CCD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6A1-6CD3-432F-AFC3-E155E71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C0C-4B13-422F-AFE3-D2DDDAE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68E-1497-4E24-8ED3-8CDDAA1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435-01E8-4323-BF4A-8D752BC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09D-E053-4434-9058-CE481D3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CFC-9925-4B79-A373-79FE1884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121-E79F-4F98-9470-FDF60064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807-3747-412F-A290-17B94CF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A2A5-F66F-4C03-8CC1-8009666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047-A5D6-4CBC-835D-76C23AC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D30A-9B4C-4E9D-828F-1B6BE70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A9E2-8ABC-4B2E-A7B4-13E3F593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2FE-17FB-45B0-8873-5829043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95E0-8D4A-4761-9C05-035D259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772-E762-4B62-8D07-A45E555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93E9-16EA-49F0-AA14-1EE62B00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F881-A841-4DB4-BE3C-F63153D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AD0F-F980-4CAD-9B50-B885DCE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D575-3B25-4DC2-ACE3-1AA8AA6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687F-C458-4320-9C85-8E3EFACD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BBE7-C723-443D-8EE3-A6C7A49A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0BE7-BA47-4D5E-84D4-70DDD733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7DD4-A823-4FC3-BA60-197634E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56EA-26DE-4DCA-AA0F-D3FC3EE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8961-2E4F-4DDF-B86E-265BB2F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90A1-8AF1-472F-88BE-F056EEB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1335-C0F7-404F-AEBE-62BE0491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0083-04C1-44FE-95AE-A0B1D4E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403E-EC0A-451D-A2E0-59A923B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685C-6F14-48FA-A0F0-D8F2689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630F-F95C-4FD8-8B2F-57573D1F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13B2-81B9-4F4C-885F-69EE257B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4424-3EB6-42BF-8870-9B9EF8BA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76BF-81F1-4E84-8F7F-4984D74C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42CB-AD4E-4982-BAEF-89870E3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5A4B-F1E5-406D-BD3F-C13781A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0C7A-59ED-4F95-A32B-7C177AB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2DF7-E795-4C05-8652-32CE81B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4ECF-AF08-46C8-9E8B-5A67773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07E3-5177-410B-9000-BB0DC211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3159-2CF3-48B2-B1BD-745E84E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B413-78BD-4D3D-A3A3-ABC0E47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16F0-7FBF-4D1B-A830-6DF143E7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EDB2-025B-4F86-AF9A-51B78B6B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0C4FE-002E-4377-B1FF-F58187E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47FE6-0BD7-407B-97DE-12356CB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53DC-D835-4A78-B2B8-C79EA46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51FCD-10D1-404B-B368-285B160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8AED5-3E23-484C-9B10-3B344D46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A184-7CFD-43ED-AC37-0E79DF2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45A9-236A-40D0-AEE3-5EE233A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2232-D7E2-453C-AB83-2DA3C8F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1947-13C2-4787-AA56-0C4DB41D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0DDA-6CA3-42B2-B724-347F688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7495C-B0A1-4634-B596-A78EA07A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2011-3093-4441-8BF5-041CF205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3A2A-4014-481D-BB79-2DA387D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B439-FC59-461A-B780-FE5D068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83E6-550C-4B43-8FC3-26EB997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56A3-B248-4E56-A178-F1FEEEB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E2C5-1F4A-4E97-A91A-77ABF27C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B45E-C972-43DF-81C7-8CEDB4AC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7A49-0974-42EA-96BF-2E16267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7C209-9C39-43C3-8144-91D5E247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7770-FE86-480E-B00E-3B897A6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CBE5-0905-4E8B-9A8C-4A4532C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F42E-D545-4D82-98D2-456FB1E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F23C-40AA-4627-B911-03FBCE92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4F64-1846-4EF8-A025-ED5A5F0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08CC-07E0-4AA7-8BB5-00D45DB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48CE6-356B-422E-8DEB-A6DC50FF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3C43-E417-4B54-B200-27B1B72F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CCF6-A7E4-46A3-AD0F-8C01B5F1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E237-75E1-41C3-8121-B4368BC8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7140-1EF2-40DE-AAB2-131967F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59A6-19E3-4105-9CA5-AA8BAFB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8A0E-603A-4483-8B0F-120A7C4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189F-B614-4666-8804-3DAEF58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AEFB0-95C4-49FE-A4EB-24BF0477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7E51-39F8-4D11-A9A2-0CA0C9DB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285840" cy="74448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412920" y="0"/>
            <a:ext cx="8731080" cy="571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5555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09680" y="189000"/>
            <a:ext cx="137880" cy="1969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547560" y="0"/>
            <a:ext cx="139680" cy="192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47560" y="189000"/>
            <a:ext cx="139680" cy="196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74680" y="382680"/>
            <a:ext cx="136440" cy="1936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131760" y="190440"/>
            <a:ext cx="141120" cy="192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409680" y="379440"/>
            <a:ext cx="137880" cy="1922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274680" y="571680"/>
            <a:ext cx="136440" cy="1904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7"/>
          <p:cNvSpPr/>
          <p:nvPr/>
        </p:nvSpPr>
        <p:spPr>
          <a:xfrm>
            <a:off x="0" y="0"/>
            <a:ext cx="482760" cy="431640"/>
          </a:xfrm>
          <a:prstGeom prst="rect">
            <a:avLst/>
          </a:pr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EF9-2A3A-4597-9996-F5A3D58F1BFF}" type="slidenum">
              <a:rPr b="1" lang="it-IT" sz="2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9"/>
          <p:cNvSpPr/>
          <p:nvPr/>
        </p:nvSpPr>
        <p:spPr>
          <a:xfrm>
            <a:off x="0" y="6527880"/>
            <a:ext cx="9144000" cy="33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B31-DE9C-4861-9B66-5E019B8B8E55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075C-5BC3-494D-AE43-155CCFA7315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igura a mano libera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igura a mano libera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1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4" name="Gallone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allone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387-8CF7-4ECF-B587-F49DE45C380E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B4D-3145-4FAF-B173-8120AF6D160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igura a mano libera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igura a mano libera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2677-B1E6-45D4-A508-AC2A6F829AB0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BC3-7192-4FB9-9FF0-DF0471DAE00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056-7266-4DE7-BB6F-09478F887DD2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F484-A496-4D96-AEA4-8690CC1AED8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igura a mano libera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igura a mano libera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8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84E-D654-4798-BF1B-AFA2E63739C0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557-7406-4120-A5FD-DE88BF8B98E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947-F8D7-45B1-B13E-783DE9A190B9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386-1AB8-46CD-B0AA-7368648336C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igura a mano libera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igura a mano libera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6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9" name="Gallone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Gallone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E93-FE9D-4A4A-A398-8810C3612729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DFC-30B6-45D7-BA66-B8D0AA00A883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8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23.xml"/><Relationship Id="rId27" Type="http://schemas.openxmlformats.org/officeDocument/2006/relationships/slide" Target="slide24.xml"/><Relationship Id="rId28" Type="http://schemas.openxmlformats.org/officeDocument/2006/relationships/slide" Target="slide16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slide4.xml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3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7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8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8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slide" Target="slide24.xml"/><Relationship Id="rId29" Type="http://schemas.openxmlformats.org/officeDocument/2006/relationships/slide" Target="slide16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slide4.xml"/><Relationship Id="rId34" Type="http://schemas.openxmlformats.org/officeDocument/2006/relationships/slide" Target="slide19.xml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" Target="slide4.xml"/><Relationship Id="rId12" Type="http://schemas.openxmlformats.org/officeDocument/2006/relationships/slide" Target="slide3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7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8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23.xml"/><Relationship Id="rId31" Type="http://schemas.openxmlformats.org/officeDocument/2006/relationships/slide" Target="slide24.xml"/><Relationship Id="rId32" Type="http://schemas.openxmlformats.org/officeDocument/2006/relationships/slide" Target="slide16.xml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slide4.xml"/><Relationship Id="rId37" Type="http://schemas.openxmlformats.org/officeDocument/2006/relationships/slide" Target="slide19.xml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Chiavetta%2029_11_2011/UST%20TREVISO%202011_2012/Orientamento/Corso%20UST/Modelli/Incontro%201_modelli_informativo/Relazione/ust.%20offerta%20formativa%20ISTRUZIONE%202011%202012.pp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:/Chiavetta%2029_11_2011/UST%20TREVISO%202011_2012/Orientamento/Corso%20UST/Modelli/Incontro%201_modelli_informativo/Relazione/ust.%20offerta%20formativa%20IeFP%202011%202012.pp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8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16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slide4.xml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2006640" y="5823000"/>
            <a:ext cx="553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827360" y="5913360"/>
            <a:ext cx="5489280" cy="368280"/>
          </a:xfrm>
          <a:prstGeom prst="rect">
            <a:avLst/>
          </a:prstGeom>
          <a:solidFill>
            <a:srgbClr val="ff99cc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dell’infanzia </a:t>
            </a:r>
            <a:r>
              <a:rPr b="1" lang="it-IT" sz="1800" spc="-1" strike="noStrike">
                <a:solidFill>
                  <a:srgbClr val="336600"/>
                </a:solidFill>
                <a:latin typeface="Arial"/>
              </a:rPr>
              <a:t>[3 ann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827360" y="5205240"/>
            <a:ext cx="5489280" cy="368280"/>
          </a:xfrm>
          <a:prstGeom prst="rect">
            <a:avLst/>
          </a:prstGeom>
          <a:solidFill>
            <a:srgbClr val="66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primaria </a:t>
            </a:r>
            <a:r>
              <a:rPr b="1" lang="it-IT" sz="1800" spc="-1" strike="noStrike">
                <a:solidFill>
                  <a:srgbClr val="336600"/>
                </a:solidFill>
                <a:latin typeface="Arial"/>
              </a:rPr>
              <a:t>[5 ann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827360" y="4721400"/>
            <a:ext cx="5489280" cy="368280"/>
          </a:xfrm>
          <a:prstGeom prst="rect">
            <a:avLst/>
          </a:prstGeom>
          <a:solidFill>
            <a:srgbClr val="cc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secondaria di I grado </a:t>
            </a:r>
            <a:r>
              <a:rPr b="1" lang="it-IT" sz="1800" spc="-1" strike="noStrike">
                <a:solidFill>
                  <a:srgbClr val="336600"/>
                </a:solidFill>
                <a:latin typeface="Arial"/>
              </a:rPr>
              <a:t>[3 ann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1827360" y="4361040"/>
            <a:ext cx="5489280" cy="296280"/>
          </a:xfrm>
          <a:prstGeom prst="rect">
            <a:avLst/>
          </a:prstGeom>
          <a:solidFill>
            <a:srgbClr val="8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Arial"/>
              </a:rPr>
              <a:t>esame di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2"/>
          <p:cNvSpPr/>
          <p:nvPr/>
        </p:nvSpPr>
        <p:spPr>
          <a:xfrm flipV="1">
            <a:off x="3664080" y="3309840"/>
            <a:ext cx="1809720" cy="641520"/>
          </a:xfrm>
          <a:prstGeom prst="leftRightArrow">
            <a:avLst>
              <a:gd name="adj1" fmla="val 50000"/>
              <a:gd name="adj2" fmla="val 56158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4"/>
          <p:cNvSpPr/>
          <p:nvPr/>
        </p:nvSpPr>
        <p:spPr>
          <a:xfrm>
            <a:off x="1601640" y="2830680"/>
            <a:ext cx="181080" cy="1199880"/>
          </a:xfrm>
          <a:custGeom>
            <a:avLst/>
            <a:gdLst>
              <a:gd name="textAreaLeft" fmla="*/ 115920 w 181080"/>
              <a:gd name="textAreaRight" fmla="*/ 181440 w 181080"/>
              <a:gd name="textAreaTop" fmla="*/ 30960 h 1199880"/>
              <a:gd name="textAreaBottom" fmla="*/ 1168920 h 119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5"/>
          <p:cNvSpPr/>
          <p:nvPr/>
        </p:nvSpPr>
        <p:spPr>
          <a:xfrm>
            <a:off x="1852560" y="1503360"/>
            <a:ext cx="2230560" cy="65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3 an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6"/>
          <p:cNvSpPr/>
          <p:nvPr/>
        </p:nvSpPr>
        <p:spPr>
          <a:xfrm flipH="1">
            <a:off x="7310520" y="3097080"/>
            <a:ext cx="193680" cy="946440"/>
          </a:xfrm>
          <a:custGeom>
            <a:avLst/>
            <a:gdLst>
              <a:gd name="textAreaLeft" fmla="*/ 124200 w 193680"/>
              <a:gd name="textAreaRight" fmla="*/ 194400 w 193680"/>
              <a:gd name="textAreaTop" fmla="*/ 24480 h 946440"/>
              <a:gd name="textAreaBottom" fmla="*/ 921960 h 94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7">
            <a:hlinkClick r:id="rId1" action="ppaction://hlinksldjump"/>
          </p:cNvPr>
          <p:cNvSpPr/>
          <p:nvPr/>
        </p:nvSpPr>
        <p:spPr>
          <a:xfrm>
            <a:off x="7535880" y="3122640"/>
            <a:ext cx="1452600" cy="9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ess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Apprendi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9">
            <a:hlinkClick r:id="rId2" action="ppaction://hlinksldjump"/>
          </p:cNvPr>
          <p:cNvSpPr/>
          <p:nvPr/>
        </p:nvSpPr>
        <p:spPr>
          <a:xfrm>
            <a:off x="182520" y="3112920"/>
            <a:ext cx="1346400" cy="63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condo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1852560" y="733320"/>
            <a:ext cx="2243160" cy="67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urea Magist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2 an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1">
            <a:hlinkClick r:id="rId3" action="ppaction://hlinksldjump"/>
          </p:cNvPr>
          <p:cNvSpPr/>
          <p:nvPr/>
        </p:nvSpPr>
        <p:spPr>
          <a:xfrm>
            <a:off x="5595840" y="979560"/>
            <a:ext cx="1710000" cy="117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4680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mazione Tecnica Super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V="1">
            <a:off x="4572000" y="5598720"/>
            <a:ext cx="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5"/>
          <p:cNvSpPr/>
          <p:nvPr/>
        </p:nvSpPr>
        <p:spPr>
          <a:xfrm>
            <a:off x="69840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ordinamento scolastico ital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6"/>
          <p:cNvSpPr/>
          <p:nvPr/>
        </p:nvSpPr>
        <p:spPr>
          <a:xfrm>
            <a:off x="1828800" y="3797280"/>
            <a:ext cx="1752480" cy="241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7"/>
          <p:cNvSpPr/>
          <p:nvPr/>
        </p:nvSpPr>
        <p:spPr>
          <a:xfrm>
            <a:off x="1828800" y="3556080"/>
            <a:ext cx="1752480" cy="241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8"/>
          <p:cNvSpPr/>
          <p:nvPr/>
        </p:nvSpPr>
        <p:spPr>
          <a:xfrm>
            <a:off x="1828800" y="3314880"/>
            <a:ext cx="1752480" cy="2412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9"/>
          <p:cNvSpPr/>
          <p:nvPr/>
        </p:nvSpPr>
        <p:spPr>
          <a:xfrm>
            <a:off x="1828800" y="3073320"/>
            <a:ext cx="1752480" cy="241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0"/>
          <p:cNvSpPr/>
          <p:nvPr/>
        </p:nvSpPr>
        <p:spPr>
          <a:xfrm>
            <a:off x="1828800" y="2832120"/>
            <a:ext cx="1752480" cy="241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1"/>
          <p:cNvSpPr/>
          <p:nvPr/>
        </p:nvSpPr>
        <p:spPr>
          <a:xfrm>
            <a:off x="5511960" y="3797280"/>
            <a:ext cx="1752480" cy="2412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2"/>
          <p:cNvSpPr/>
          <p:nvPr/>
        </p:nvSpPr>
        <p:spPr>
          <a:xfrm>
            <a:off x="5511960" y="3556080"/>
            <a:ext cx="1752480" cy="2412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3"/>
          <p:cNvSpPr/>
          <p:nvPr/>
        </p:nvSpPr>
        <p:spPr>
          <a:xfrm>
            <a:off x="5511960" y="3314880"/>
            <a:ext cx="1752480" cy="2412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4"/>
          <p:cNvSpPr/>
          <p:nvPr/>
        </p:nvSpPr>
        <p:spPr>
          <a:xfrm>
            <a:off x="5511960" y="3073320"/>
            <a:ext cx="1752480" cy="241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5"/>
          <p:cNvSpPr/>
          <p:nvPr/>
        </p:nvSpPr>
        <p:spPr>
          <a:xfrm flipV="1">
            <a:off x="2705040" y="4036680"/>
            <a:ext cx="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6"/>
          <p:cNvSpPr/>
          <p:nvPr/>
        </p:nvSpPr>
        <p:spPr>
          <a:xfrm flipV="1">
            <a:off x="6400800" y="4036680"/>
            <a:ext cx="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7"/>
          <p:cNvSpPr/>
          <p:nvPr/>
        </p:nvSpPr>
        <p:spPr>
          <a:xfrm>
            <a:off x="1827360" y="2476440"/>
            <a:ext cx="5489280" cy="296280"/>
          </a:xfrm>
          <a:prstGeom prst="rect">
            <a:avLst/>
          </a:prstGeom>
          <a:solidFill>
            <a:srgbClr val="8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Arial"/>
              </a:rPr>
              <a:t>esame di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8"/>
          <p:cNvSpPr/>
          <p:nvPr/>
        </p:nvSpPr>
        <p:spPr>
          <a:xfrm flipV="1">
            <a:off x="2705040" y="2169720"/>
            <a:ext cx="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9"/>
          <p:cNvSpPr/>
          <p:nvPr/>
        </p:nvSpPr>
        <p:spPr>
          <a:xfrm flipV="1">
            <a:off x="6464160" y="2169720"/>
            <a:ext cx="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11"/>
          <p:cNvSpPr/>
          <p:nvPr/>
        </p:nvSpPr>
        <p:spPr>
          <a:xfrm>
            <a:off x="1589040" y="4900680"/>
            <a:ext cx="181080" cy="1200240"/>
          </a:xfrm>
          <a:custGeom>
            <a:avLst/>
            <a:gdLst>
              <a:gd name="textAreaLeft" fmla="*/ 115920 w 181080"/>
              <a:gd name="textAreaRight" fmla="*/ 181440 w 18108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2">
            <a:hlinkClick r:id="rId5" action="ppaction://hlinksldjump"/>
          </p:cNvPr>
          <p:cNvSpPr/>
          <p:nvPr/>
        </p:nvSpPr>
        <p:spPr>
          <a:xfrm>
            <a:off x="169920" y="5183280"/>
            <a:ext cx="1346040" cy="63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212760" y="1132560"/>
            <a:ext cx="86169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cuni “pilastri”, presenti in ogni percorso liceale, sono costituiti dalla presenza, comunque in termini di monte ore, di tre materie chia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spcAft>
                <a:spcPts val="601"/>
              </a:spcAft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tali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spcAft>
                <a:spcPts val="601"/>
              </a:spcAft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lingua strani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spcAft>
                <a:spcPts val="601"/>
              </a:spcAft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matema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vendo cura di garantire in tutti i quinquenni l’insegnamento delle scienze e/o della fisica e della storia dell’arte.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Licei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2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4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277920" y="1376640"/>
            <a:ext cx="859464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2440" indent="-622440">
              <a:lnSpc>
                <a:spcPct val="11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In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Calibri"/>
              </a:rPr>
              <a:t>tutti i Lice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 viene studiata obbligatoriamente   almeno una lingua stran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1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Nel </a:t>
            </a:r>
            <a:r>
              <a:rPr b="1" lang="it-IT" sz="2400" spc="-1" strike="noStrike">
                <a:solidFill>
                  <a:srgbClr val="006600"/>
                </a:solidFill>
                <a:latin typeface="Arial"/>
                <a:ea typeface="Calibri"/>
              </a:rPr>
              <a:t>Liceo linguist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, che diventa scuola di ordinamento, si studiano tre lingue strani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1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È attivabile una seconda lingua straniera in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Calibri"/>
              </a:rPr>
              <a:t>tutti i Lice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 usufruendo  della quota di 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1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In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Calibri"/>
              </a:rPr>
              <a:t>tutti i percors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Calibri"/>
              </a:rPr>
              <a:t> è previsto che, nel quinto anno di corso, una disciplina non linguistica sia studiata in lingua stran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1050840" y="428292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Licei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0">
            <a:hlinkClick r:id="rId5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1">
            <a:hlinkClick r:id="rId6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2">
            <a:hlinkClick r:id="rId7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3">
            <a:hlinkClick r:id="rId8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4">
            <a:hlinkClick r:id="rId9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5">
            <a:hlinkClick r:id="rId10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6">
            <a:hlinkClick r:id="rId11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7">
            <a:hlinkClick r:id="rId12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8">
            <a:hlinkClick r:id="rId13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9">
            <a:hlinkClick r:id="rId14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0">
            <a:hlinkClick r:id="rId15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1">
            <a:hlinkClick r:id="rId16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2">
            <a:hlinkClick r:id="rId17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3">
            <a:hlinkClick r:id="rId18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4">
            <a:hlinkClick r:id="rId19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5">
            <a:hlinkClick r:id="rId20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6">
            <a:hlinkClick r:id="rId21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7">
            <a:hlinkClick r:id="rId22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8">
            <a:hlinkClick r:id="rId23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9">
            <a:hlinkClick r:id="rId24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0">
            <a:hlinkClick r:id="rId25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1">
            <a:hlinkClick r:id="rId26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2">
            <a:hlinkClick r:id="rId27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3">
            <a:hlinkClick r:id="rId28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4">
            <a:hlinkClick r:id="rId29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5">
            <a:hlinkClick r:id="rId30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6">
            <a:hlinkClick r:id="rId31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7">
            <a:hlinkClick r:id="rId32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8">
            <a:hlinkClick r:id="rId33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9">
            <a:hlinkClick r:id="rId34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0">
            <a:hlinkClick r:id="rId35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Licei –Orario per gl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44600" y="914400"/>
          <a:ext cx="8229600" cy="3317760"/>
        </p:xfrm>
        <a:graphic>
          <a:graphicData uri="http://schemas.openxmlformats.org/drawingml/2006/table">
            <a:tbl>
              <a:tblPr/>
              <a:tblGrid>
                <a:gridCol w="5410080"/>
                <a:gridCol w="1397160"/>
                <a:gridCol w="1422360"/>
              </a:tblGrid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lass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tifico, linguistico, scienze u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usicale e coreu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9" name="Rectangle 59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0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1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2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3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4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5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6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8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9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0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1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2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3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4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5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6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7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8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9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0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1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2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83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4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5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6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7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8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9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nuovi Tecnici – Struttura del percorso quinquen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8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9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3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4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6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3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4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5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6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7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8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9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0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1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2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4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5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6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7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176040" y="820800"/>
            <a:ext cx="8642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Il percorso è articolato in: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2 bien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1 quinto ann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- 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imo bienni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è dedicato all'acquisizione dei saperi e delle competenze previsti per l'assolvimento dell'obbligo di istruzione e di apprendim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he introducono progressivamente agli indirizzi.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- 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condo bienni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quinto ann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costituiscono l’articolazione di un complessivo triennio in cui gli indirizzi possono articolarsi nelle opzioni richieste dal territorio e dal mondo del lavoro e delle professioni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Gli apprendimenti sono suddivisi i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un’area di insegnamento generale comun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ree di indirizzo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24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l superamento dell’esame di stato conclusivo viene rilasciato il diploma di istruzione tecnica indicante l’indirizzo seguito dallo studente e le competenze acquisite anche con riferimento alle eventuali opzioni sce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Il diploma costituisce titolo per l’accesso all’università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gli istituti di alta formazione artistica, musicale e coreutica, agli ITS e agli 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93560" y="1303200"/>
            <a:ext cx="800748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competenze, abilità e conoscenze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secondo il Quadro europeo dei titoli e delle qualifiche (EQF), per favorire la mobilità delle persone nell’Unione Europ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Stage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Tirocini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lternanza Scuola Lavoro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per apprendere in contesti oper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esperti estern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per arricchire l’offerta formativa e sviluppare competenze 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Integrazione delle scienz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Tecnici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4">
            <a:hlinkClick r:id="rId6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5">
            <a:hlinkClick r:id="rId7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6">
            <a:hlinkClick r:id="rId8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7">
            <a:hlinkClick r:id="rId9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8">
            <a:hlinkClick r:id="rId10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9">
            <a:hlinkClick r:id="rId11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0">
            <a:hlinkClick r:id="rId12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1">
            <a:hlinkClick r:id="rId13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>
            <a:hlinkClick r:id="rId14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>
            <a:hlinkClick r:id="rId15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>
            <a:hlinkClick r:id="rId16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>
            <a:hlinkClick r:id="rId17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6">
            <a:hlinkClick r:id="rId18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7">
            <a:hlinkClick r:id="rId19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8">
            <a:hlinkClick r:id="rId20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9">
            <a:hlinkClick r:id="rId21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0">
            <a:hlinkClick r:id="rId22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1">
            <a:hlinkClick r:id="rId23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2">
            <a:hlinkClick r:id="rId24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3">
            <a:hlinkClick r:id="rId25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4">
            <a:hlinkClick r:id="rId26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5">
            <a:hlinkClick r:id="rId27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6">
            <a:hlinkClick r:id="rId28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7">
            <a:hlinkClick r:id="rId29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>
            <a:hlinkClick r:id="rId30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9">
            <a:hlinkClick r:id="rId31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0">
            <a:hlinkClick r:id="rId32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1">
            <a:hlinkClick r:id="rId33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2">
            <a:hlinkClick r:id="rId34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3">
            <a:hlinkClick r:id="rId35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4">
            <a:hlinkClick r:id="rId36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9"/>
          <p:cNvSpPr/>
          <p:nvPr/>
        </p:nvSpPr>
        <p:spPr>
          <a:xfrm>
            <a:off x="673200" y="4940280"/>
            <a:ext cx="7454880" cy="1130400"/>
          </a:xfrm>
          <a:prstGeom prst="flowChartAlternateProcess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32 ore settimanali di 60 minuti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[1.056 ore annuali di lezio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Tecnici – Orario per gl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7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8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9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0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1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2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3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4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5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6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7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8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9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0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1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2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3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4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5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6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7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58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9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0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1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2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3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4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65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6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7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19040" y="909720"/>
          <a:ext cx="8305920" cy="3781440"/>
        </p:xfrm>
        <a:graphic>
          <a:graphicData uri="http://schemas.openxmlformats.org/drawingml/2006/table">
            <a:tbl>
              <a:tblPr/>
              <a:tblGrid>
                <a:gridCol w="3497400"/>
                <a:gridCol w="2125440"/>
                <a:gridCol w="2683080"/>
              </a:tblGrid>
              <a:tr h="7398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CO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DI INDIRI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O BIENNIO UNI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660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20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39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2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O BIEN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495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5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561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7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TO AN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495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5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561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7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6"/>
          <p:cNvSpPr/>
          <p:nvPr/>
        </p:nvSpPr>
        <p:spPr>
          <a:xfrm>
            <a:off x="406440" y="839880"/>
            <a:ext cx="8356680" cy="1191240"/>
          </a:xfrm>
          <a:prstGeom prst="rect">
            <a:avLst/>
          </a:prstGeom>
          <a:solidFill>
            <a:srgbClr val="3366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ercors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quinquennali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con una solida base di istruzione generale e tecnico professionale per acquisire la cultura del settore produttivo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Professionali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5"/>
          <p:cNvSpPr/>
          <p:nvPr/>
        </p:nvSpPr>
        <p:spPr>
          <a:xfrm>
            <a:off x="384120" y="225576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percorso è articolato in: 2 bienni e 1 quinto 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egnaposto contenuto 5"/>
          <p:cNvSpPr/>
          <p:nvPr/>
        </p:nvSpPr>
        <p:spPr>
          <a:xfrm>
            <a:off x="463680" y="2801880"/>
            <a:ext cx="8235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rimo bienn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finalizzato all’iniziale approfondimento e sviluppo delle conoscenze e delle abilità e a una prima maturazione delle competenze caratterizzanti le singole articolazioni del sistema professionale nonché all’assolvimento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ll’obbligo di istruzio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secondo bienn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finalizzato all’approfondimento e allo sviluppo delle conoscenze e delle abilità e alla maturazione dell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mpetenze caratterizzanti le singole articolazioni del sistema profession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relazione al percorso e/o l’articolazione scelt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quinto an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persegue la piena realizzazione del profilo educativo, culturale e professionale dello studente   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mpleto raggiungimento degli obiettivi specifici di apprendimento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e si consolida il percorso di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rientamento agli studi successiv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all’inserimento nel mondo del lavo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Professionali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557280" y="934920"/>
            <a:ext cx="803268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competenze, abilità e conoscenz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secondo il Quadro europeo dei titoli e delle qualifiche (EQF), per favorire la mobilità delle persone nell’Unione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Forte integrazione tra i saperi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nche nella dimensione ope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Saperi e Competenz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coerenti con le esigenze formative delle filiere di riferimento (produzione di beni e/o serviz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apacità di rispondere alle richieste di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personalizzazion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ei prodotti e dei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ompetenze nell’uso di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tecnologie e metodologie innovativ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in contesti Applic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laborator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Stag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Tiroci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Alternanza Scuola Lavor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per apprendere in contesti operativi soprattutto nel secondo biennio e nel quinto a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it-IT" sz="2000" spc="-1" strike="noStrike">
                <a:solidFill>
                  <a:srgbClr val="ef033b"/>
                </a:solidFill>
                <a:latin typeface="Arial"/>
              </a:rPr>
              <a:t>esperti esterni</a:t>
            </a:r>
            <a:r>
              <a:rPr b="0" lang="it-IT" sz="20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per arricchire l’offerta formativa e sviluppare competenze special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>
            <a:hlinkClick r:id="rId9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">
            <a:hlinkClick r:id="rId10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>
            <a:hlinkClick r:id="rId11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8">
            <a:hlinkClick r:id="rId12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9">
            <a:hlinkClick r:id="rId13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>
            <a:hlinkClick r:id="rId14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>
            <a:hlinkClick r:id="rId15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">
            <a:hlinkClick r:id="rId16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3">
            <a:hlinkClick r:id="rId17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4">
            <a:hlinkClick r:id="rId18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5">
            <a:hlinkClick r:id="rId19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6">
            <a:hlinkClick r:id="rId20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7">
            <a:hlinkClick r:id="rId21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>
            <a:hlinkClick r:id="rId22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9">
            <a:hlinkClick r:id="rId23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">
            <a:hlinkClick r:id="rId24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1">
            <a:hlinkClick r:id="rId25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2">
            <a:hlinkClick r:id="rId26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3">
            <a:hlinkClick r:id="rId27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4">
            <a:hlinkClick r:id="rId28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5">
            <a:hlinkClick r:id="rId29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6">
            <a:hlinkClick r:id="rId30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7">
            <a:hlinkClick r:id="rId31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8">
            <a:hlinkClick r:id="rId32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9">
            <a:hlinkClick r:id="rId33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0">
            <a:hlinkClick r:id="rId34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1">
            <a:hlinkClick r:id="rId35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2">
            <a:hlinkClick r:id="rId36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3">
            <a:hlinkClick r:id="rId37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4">
            <a:hlinkClick r:id="rId38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5">
            <a:hlinkClick r:id="rId39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965160" y="5118120"/>
            <a:ext cx="7454880" cy="1130400"/>
          </a:xfrm>
          <a:prstGeom prst="flowChartAlternateProcess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32 ore settimanali di 60 minuti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[1.056 ore annuali di lezio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Professionali – Carico orario per gl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5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6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7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8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9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0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1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2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3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4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6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37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38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9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0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1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2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3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44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5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6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7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8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9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0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1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52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3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4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5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711360" y="914400"/>
          <a:ext cx="8001000" cy="3959280"/>
        </p:xfrm>
        <a:graphic>
          <a:graphicData uri="http://schemas.openxmlformats.org/drawingml/2006/table">
            <a:tbl>
              <a:tblPr/>
              <a:tblGrid>
                <a:gridCol w="2933640"/>
                <a:gridCol w="2317680"/>
                <a:gridCol w="2749680"/>
              </a:tblGrid>
              <a:tr h="7747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CO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DI INDIRI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O BIENNIO UNI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660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20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39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2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O BIEN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495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5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561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7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TO AN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495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5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561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06060"/>
                          </a:solidFill>
                          <a:latin typeface="Arial"/>
                          <a:ea typeface="Arial"/>
                        </a:rPr>
                        <a:t>(17 h se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7"/>
          <p:cNvSpPr/>
          <p:nvPr/>
        </p:nvSpPr>
        <p:spPr>
          <a:xfrm>
            <a:off x="609480" y="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nuovi Professionali – Assolvimento obbligo 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469800" y="952560"/>
            <a:ext cx="843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Gli studenti, in possesso del titolo conclusivo del primo ciclo, possono iscriversi presso gli Istituti Professionali a </a:t>
            </a:r>
            <a:r>
              <a:rPr b="1" lang="it-IT" sz="2000" spc="-1" strike="noStrike">
                <a:solidFill>
                  <a:srgbClr val="336600"/>
                </a:solidFill>
                <a:latin typeface="Arial"/>
              </a:rPr>
              <a:t>percorsi triennali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per il conseguimento di qualifiche professionali, ai fini dell’assolvimento dell’obbligo di istruzione e del diritto dovere all’istruzione e alla 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469800" y="2806560"/>
            <a:ext cx="834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I percorsi sono realizzati dagli Istituti Professionali di Stato, in regime sussidiario, nel quadro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ell’Accordo territoriale tra la Regione del Veneto e l’Ufficio Scolastico Regionale per il Veneto sottoscritto il 13 gennaio 20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Si tratta di un’offerta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complementare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; pertanto, una volta conseguita la qualifica, per proseguire eventualmente nel percorso di istruzione professionale, l’alunno dovrà richiedere una procedura di passaggio (sui passaggi verrà promulgato un apposito Rego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69840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obbligo di 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95360" y="5716440"/>
            <a:ext cx="8013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creto 22 agosto 2007, n. 139. Regolamento recante norme in materia di adempimento dell’obbligo d’istruzione, ai sensi dell’art.1, comma 622, della Legge 27 dicembre 2006, n.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419040" y="1220760"/>
            <a:ext cx="810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193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Tutti i ragazzi e le ragazze sono tenuti a frequentare la scuol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fino a 16 anni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.                                     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(L’ultimo anno dell’istruzione può essere assolto in regime di apprendistato se è resa possibile la frequenza di percorsi specific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0"/>
          <p:cNvSpPr/>
          <p:nvPr/>
        </p:nvSpPr>
        <p:spPr>
          <a:xfrm>
            <a:off x="406440" y="325296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19368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’assolvimento dell’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obbligo di istruzione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potrà essere realizzato sia all'interno dei  percorsi di Istruzione Superiore (liceo, istruzione tecnica, istruzione professionale) sia nei corsi di formazione profession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Formazione Professionale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2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3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4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5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6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7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8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9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0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1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2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3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4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5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6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7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8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9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0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1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2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3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4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57120" y="946080"/>
            <a:ext cx="83408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Sistema governato dalle Regioni, realizzato da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nti di Formazione (CFP)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e da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stituti Professionali di </a:t>
            </a:r>
            <a:r>
              <a:rPr b="1" lang="it-IT" sz="1800" spc="-1" strike="noStrike">
                <a:solidFill>
                  <a:srgbClr val="ff5050"/>
                </a:solidFill>
                <a:latin typeface="Arial"/>
                <a:ea typeface="Arial"/>
              </a:rPr>
              <a:t>Istruzio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Secondaria superio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e ne fanno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inalizzati a far acquisire conoscenze sia pratiche che teo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ono ad assolvere l’obbligo di istruzione e il diritto-do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parano a svolgere ruoli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rettamente legati ai differenti settori produttivi d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ientano e guidano il primo inserimento nel mondo de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354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70c0"/>
                </a:solidFill>
                <a:latin typeface="Arial"/>
                <a:ea typeface="Arial"/>
              </a:rPr>
              <a:t>Nella formazione professionale.. si impara facen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380880" y="4260960"/>
            <a:ext cx="83408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355680" indent="-35568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I Corsi prevedono l’acquisizione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etenz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base per accesso mondo de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etenze tecnico-professionali connesse ad esercizio delle attività operative richieste nei diversi ambiti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etenz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sversali capacità comunicativo / relazionali, organizz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Formazione Professionale – Elementi caratterizz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9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0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2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3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4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5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6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7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8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0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1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2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3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4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5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6"/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7"/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8"/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9"/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0"/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1"/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2"/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3"/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4"/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465120" y="981000"/>
            <a:ext cx="792972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QUALIFICA PROFESSIONALE TRIEN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e cons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ccesso diretto al mondo de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equenza di corsi regionali di specializzazione profess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secuzione al quarto anno nell’Istruzione o nei corsi IV anno della Formazione professionale</a:t>
            </a:r>
            <a:r>
              <a:rPr b="1" lang="it-IT" sz="1800" spc="-1" strike="noStrike">
                <a:solidFill>
                  <a:srgbClr val="606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DIPLOMA PROFESSIONALE QUADRIENNALE di TE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06060"/>
                </a:solidFill>
                <a:latin typeface="Arial"/>
                <a:ea typeface="Arial"/>
              </a:rPr>
              <a:t>(in riferimento alle 21 qualifiche quadrien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Arial"/>
              </a:rPr>
              <a:t>Chi sceglie la formazione profession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ha maggiori attitudini e interessi per l’apprendimento pratico-man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ma realizzare, manipolare, prod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si pone obiettivi di inserimento lavorativo a breve 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manifesta chiaramente propensioni e forte motivazione a una specifica prof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3"/>
          <p:cNvSpPr/>
          <p:nvPr/>
        </p:nvSpPr>
        <p:spPr>
          <a:xfrm>
            <a:off x="660240" y="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formazioni u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itolo 1"/>
          <p:cNvSpPr/>
          <p:nvPr/>
        </p:nvSpPr>
        <p:spPr>
          <a:xfrm>
            <a:off x="-533520" y="2679840"/>
            <a:ext cx="3416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itolo 1"/>
          <p:cNvSpPr/>
          <p:nvPr/>
        </p:nvSpPr>
        <p:spPr>
          <a:xfrm>
            <a:off x="530280" y="708120"/>
            <a:ext cx="632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VE CERCARE LE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CasellaDiTesto 3"/>
          <p:cNvSpPr/>
          <p:nvPr/>
        </p:nvSpPr>
        <p:spPr>
          <a:xfrm>
            <a:off x="836640" y="1384200"/>
            <a:ext cx="1531800" cy="642600"/>
          </a:xfrm>
          <a:prstGeom prst="rect">
            <a:avLst/>
          </a:prstGeom>
          <a:solidFill>
            <a:srgbClr val="004d8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www.miur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CasellaDiTesto 4"/>
          <p:cNvSpPr/>
          <p:nvPr/>
        </p:nvSpPr>
        <p:spPr>
          <a:xfrm>
            <a:off x="942840" y="2784600"/>
            <a:ext cx="34005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V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ww.progettoalvear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CasellaDiTesto 13"/>
          <p:cNvSpPr/>
          <p:nvPr/>
        </p:nvSpPr>
        <p:spPr>
          <a:xfrm>
            <a:off x="2568600" y="1803240"/>
            <a:ext cx="634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PRAL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ww.venetolavoro.it/sopralamediaweb/web/index/hom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asellaDiTesto 18"/>
          <p:cNvSpPr/>
          <p:nvPr/>
        </p:nvSpPr>
        <p:spPr>
          <a:xfrm>
            <a:off x="1509840" y="4383000"/>
            <a:ext cx="1706400" cy="64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www.cortv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CasellaDiTesto 4"/>
          <p:cNvSpPr/>
          <p:nvPr/>
        </p:nvSpPr>
        <p:spPr>
          <a:xfrm>
            <a:off x="4702320" y="3749760"/>
            <a:ext cx="340020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ENTAMENTO VE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entamentovene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3"/>
          <p:cNvSpPr/>
          <p:nvPr/>
        </p:nvSpPr>
        <p:spPr>
          <a:xfrm>
            <a:off x="660240" y="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vate vo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itolo 1"/>
          <p:cNvSpPr/>
          <p:nvPr/>
        </p:nvSpPr>
        <p:spPr>
          <a:xfrm>
            <a:off x="-533520" y="2781360"/>
            <a:ext cx="341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tolo 1"/>
          <p:cNvSpPr/>
          <p:nvPr/>
        </p:nvSpPr>
        <p:spPr>
          <a:xfrm>
            <a:off x="530280" y="809640"/>
            <a:ext cx="7902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 quale/i scuola/e superiore/i mi iscrivo se sono interessato 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9800" y="1422360"/>
          <a:ext cx="8267760" cy="4889520"/>
        </p:xfrm>
        <a:graphic>
          <a:graphicData uri="http://schemas.openxmlformats.org/drawingml/2006/table">
            <a:tbl>
              <a:tblPr/>
              <a:tblGrid>
                <a:gridCol w="2847960"/>
                <a:gridCol w="54198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di occup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tituto/i Superiore/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prend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z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60240" y="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ate vo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tolo 1"/>
          <p:cNvSpPr/>
          <p:nvPr/>
        </p:nvSpPr>
        <p:spPr>
          <a:xfrm>
            <a:off x="-533520" y="2781360"/>
            <a:ext cx="341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tolo 1"/>
          <p:cNvSpPr/>
          <p:nvPr/>
        </p:nvSpPr>
        <p:spPr>
          <a:xfrm>
            <a:off x="365040" y="974880"/>
            <a:ext cx="8359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 riflettere su quanto hai ascoltato, rispondi ad alcune do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tolo 1"/>
          <p:cNvSpPr/>
          <p:nvPr/>
        </p:nvSpPr>
        <p:spPr>
          <a:xfrm>
            <a:off x="1266840" y="1838160"/>
            <a:ext cx="738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 informazioni importanti mancano sui lic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tolo 1"/>
          <p:cNvSpPr/>
          <p:nvPr/>
        </p:nvSpPr>
        <p:spPr>
          <a:xfrm>
            <a:off x="1266840" y="2397240"/>
            <a:ext cx="738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volessi frequentare una scuola che mi premette di entrare presto nel mondo del lavoro cosa potrei scegli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itolo 1"/>
          <p:cNvSpPr/>
          <p:nvPr/>
        </p:nvSpPr>
        <p:spPr>
          <a:xfrm>
            <a:off x="1254240" y="4683240"/>
            <a:ext cx="738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o a che età devo studiare? Perché questo deve essere considerato come un “vantaggio” e non come un “peso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itolo 1"/>
          <p:cNvSpPr/>
          <p:nvPr/>
        </p:nvSpPr>
        <p:spPr>
          <a:xfrm>
            <a:off x="1254240" y="3146400"/>
            <a:ext cx="738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a viene rilasciato alla fine di un percorso di studi in un Istituto Tecnico? Cosa mi permette di 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tolo 1"/>
          <p:cNvSpPr/>
          <p:nvPr/>
        </p:nvSpPr>
        <p:spPr>
          <a:xfrm>
            <a:off x="1279440" y="5407200"/>
            <a:ext cx="738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 scuole sono presenti nel nostro territor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ccia a destra 11"/>
          <p:cNvSpPr/>
          <p:nvPr/>
        </p:nvSpPr>
        <p:spPr>
          <a:xfrm>
            <a:off x="507960" y="1955880"/>
            <a:ext cx="558720" cy="241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ccia a destra 12"/>
          <p:cNvSpPr/>
          <p:nvPr/>
        </p:nvSpPr>
        <p:spPr>
          <a:xfrm>
            <a:off x="507960" y="2540160"/>
            <a:ext cx="558720" cy="241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ccia a destra 13"/>
          <p:cNvSpPr/>
          <p:nvPr/>
        </p:nvSpPr>
        <p:spPr>
          <a:xfrm>
            <a:off x="520560" y="3263760"/>
            <a:ext cx="559080" cy="2415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ccia a destra 14"/>
          <p:cNvSpPr/>
          <p:nvPr/>
        </p:nvSpPr>
        <p:spPr>
          <a:xfrm>
            <a:off x="533520" y="4813200"/>
            <a:ext cx="558720" cy="24156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ccia a destra 15"/>
          <p:cNvSpPr/>
          <p:nvPr/>
        </p:nvSpPr>
        <p:spPr>
          <a:xfrm>
            <a:off x="546120" y="5549760"/>
            <a:ext cx="558720" cy="24156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itolo 1"/>
          <p:cNvSpPr/>
          <p:nvPr/>
        </p:nvSpPr>
        <p:spPr>
          <a:xfrm>
            <a:off x="1228680" y="3895560"/>
            <a:ext cx="73818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e scuola potrei scegliere se sento già un forte interesse verso un settore lavora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ccia a destra 17"/>
          <p:cNvSpPr/>
          <p:nvPr/>
        </p:nvSpPr>
        <p:spPr>
          <a:xfrm>
            <a:off x="507960" y="4025880"/>
            <a:ext cx="558720" cy="241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contenuto 2"/>
          <p:cNvSpPr/>
          <p:nvPr/>
        </p:nvSpPr>
        <p:spPr>
          <a:xfrm>
            <a:off x="635040" y="1639800"/>
            <a:ext cx="822960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71680" y="1422360"/>
            <a:ext cx="8064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'obbligo d’istruzione </a:t>
            </a:r>
            <a:r>
              <a:rPr b="1" lang="it-IT" sz="2400" spc="-1" strike="noStrike" u="sng">
                <a:solidFill>
                  <a:srgbClr val="000099"/>
                </a:solidFill>
                <a:uFillTx/>
                <a:latin typeface="Arial"/>
              </a:rPr>
              <a:t>non costituisce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un punto terminale del percorso scola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Dopo l'obbligo c'è, infatti, i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diritto-dovere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all'istruzione fino almeno a 18 anni, che si realizza nella scuola, nella formazione professionale e nell'apprendi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69840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ritto dovere all’istruzione e al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520560" y="1422360"/>
          <a:ext cx="8305920" cy="331956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701720"/>
                <a:gridCol w="1778040"/>
                <a:gridCol w="1701720"/>
              </a:tblGrid>
              <a:tr h="138420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uzione Secondaria Superi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struzione e Formazione Profess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6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c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872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tituti Tecnici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tituti Professio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ercorsi Tri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ercorsi Quadri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2880">
                      <a:solidFill>
                        <a:srgbClr val="3333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66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ploma di Istruzione Lice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872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ploma di Istruzione Tec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ploma di Istr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fess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ualifica di Operatore Profess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3333cc"/>
                      </a:solidFill>
                    </a:lnL>
                    <a:lnR w="288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ploma Professionale di Tec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08" name="Text Box 38"/>
          <p:cNvSpPr/>
          <p:nvPr/>
        </p:nvSpPr>
        <p:spPr>
          <a:xfrm>
            <a:off x="635040" y="0"/>
            <a:ext cx="85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econdo ciclo del sistema educativo di istruzione e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17520" y="901800"/>
          <a:ext cx="8636040" cy="5029200"/>
        </p:xfrm>
        <a:graphic>
          <a:graphicData uri="http://schemas.openxmlformats.org/drawingml/2006/table">
            <a:tbl>
              <a:tblPr/>
              <a:tblGrid>
                <a:gridCol w="4110120"/>
                <a:gridCol w="45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class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pzione</a:t>
                      </a:r>
                      <a:r>
                        <a:rPr b="0" i="1" lang="it-IT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it-IT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ienze applic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lingui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ti figu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e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udiovisivo e multimed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De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Gra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cenografia</a:t>
                      </a:r>
                      <a:r>
                        <a:rPr b="1" lang="it-IT" sz="2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musicale e coreu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delle scienze uma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pzione economico-soc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Text Box 47"/>
          <p:cNvSpPr/>
          <p:nvPr/>
        </p:nvSpPr>
        <p:spPr>
          <a:xfrm>
            <a:off x="69840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Licei – Impian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468360" y="7272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 Black"/>
              </a:rPr>
              <a:t>2 SETTORI - 11 INDIRI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50920" y="1374840"/>
          <a:ext cx="8727840" cy="4637160"/>
        </p:xfrm>
        <a:graphic>
          <a:graphicData uri="http://schemas.openxmlformats.org/drawingml/2006/table">
            <a:tbl>
              <a:tblPr/>
              <a:tblGrid>
                <a:gridCol w="3165480"/>
                <a:gridCol w="5562360"/>
              </a:tblGrid>
              <a:tr h="481320">
                <a:tc>
                  <a:txBody>
                    <a:bodyPr lIns="72000" rIns="36000" tIns="90000" bIns="54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ECONO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72000" rIns="36000" tIns="90000" bIns="54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TECN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55840">
                <a:tc>
                  <a:txBody>
                    <a:bodyPr lIns="72000" rIns="36000" tIns="90000" bIns="54000" anchor="t">
                      <a:noAutofit/>
                    </a:bodyPr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1. Amministrazione, Finanza 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2. Tu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90000" bIns="54000" anchor="t">
                      <a:noAutofit/>
                    </a:bodyPr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1. Meccanica, Meccatronica ed Ener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2. Trasporti  e Logi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3. Elettronica ed Elettrotecn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4. Informatica e Telecomunicazion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5. Grafica e Comun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6. Chimica, Materiali e Biotecnolo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7. Sistema M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8. Agraria, Agroalimentare e Agroindust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9. Costruzioni, Ambiente e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Text Box 38"/>
          <p:cNvSpPr/>
          <p:nvPr/>
        </p:nvSpPr>
        <p:spPr>
          <a:xfrm>
            <a:off x="698400" y="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li Istituti Tecnici – Impian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68360" y="7272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 Black"/>
              </a:rPr>
              <a:t>2 SETTORI - 6 INDIRI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0920" y="1374840"/>
          <a:ext cx="8727840" cy="3852720"/>
        </p:xfrm>
        <a:graphic>
          <a:graphicData uri="http://schemas.openxmlformats.org/drawingml/2006/table">
            <a:tbl>
              <a:tblPr/>
              <a:tblGrid>
                <a:gridCol w="3165480"/>
                <a:gridCol w="5562360"/>
              </a:tblGrid>
              <a:tr h="530280">
                <a:tc>
                  <a:txBody>
                    <a:bodyPr lIns="72000" rIns="36000" tIns="90000" bIns="54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dei SERV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72000" rIns="36000" tIns="90000" bIns="54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INDUSTRIA e ARTIGIA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322440">
                <a:tc>
                  <a:txBody>
                    <a:bodyPr lIns="72000" rIns="36000" tIns="90000" bIns="54000" anchor="t">
                      <a:noAutofit/>
                    </a:bodyPr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1. Servizi per l’agricoltura e lo sviluppo rur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2. Servizi socio-sanit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3. Servizi per l’enoga-stronomia e l’ospita-lità albergh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4. Servizi commercial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90000" bIns="54000" anchor="t">
                      <a:noAutofit/>
                    </a:bodyPr>
                    <a:p>
                      <a:pPr marL="444600" indent="-44460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1. Produzioni artigianali e industriali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44460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2. Manutenzione e assistenza te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 Box 17"/>
          <p:cNvSpPr/>
          <p:nvPr/>
        </p:nvSpPr>
        <p:spPr>
          <a:xfrm>
            <a:off x="698400" y="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li Istituti Professionali – Impianto organizz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1">
            <a:hlinkClick r:id="rId1"/>
          </p:cNvPr>
          <p:cNvSpPr/>
          <p:nvPr/>
        </p:nvSpPr>
        <p:spPr>
          <a:xfrm>
            <a:off x="8356680" y="6058080"/>
            <a:ext cx="342720" cy="279360"/>
          </a:xfrm>
          <a:prstGeom prst="rightArrow">
            <a:avLst>
              <a:gd name="adj1" fmla="val 50000"/>
              <a:gd name="adj2" fmla="val 306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6"/>
          <p:cNvSpPr/>
          <p:nvPr/>
        </p:nvSpPr>
        <p:spPr>
          <a:xfrm>
            <a:off x="698400" y="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ormazione Professionale – Impianto organizz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asellaDiTesto 3"/>
          <p:cNvSpPr/>
          <p:nvPr/>
        </p:nvSpPr>
        <p:spPr>
          <a:xfrm>
            <a:off x="158760" y="1262160"/>
            <a:ext cx="442116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033b"/>
                </a:solidFill>
                <a:latin typeface="Arial"/>
                <a:ea typeface="Calibri"/>
              </a:rPr>
              <a:t>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e calz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e produzioni chim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'abbigli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ed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elet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elettr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gra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i impianti termo-idrau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e lavorazioni art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 montaggio e della manuten-zione di imbarcazioni da dipo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asellaDiTesto 3"/>
          <p:cNvSpPr/>
          <p:nvPr/>
        </p:nvSpPr>
        <p:spPr>
          <a:xfrm>
            <a:off x="4722840" y="1262160"/>
            <a:ext cx="442116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033b"/>
                </a:solidFill>
                <a:latin typeface="Arial"/>
                <a:ea typeface="Calibri"/>
              </a:rPr>
              <a:t>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alla riparazione dei veicoli a mo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mecca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 beness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a risto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ai servizi di promozione e accogl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amministrativo-segret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ai servizi di vend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i sistemi e dei servizi logi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della trasformazione agro-ali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- ag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19"/>
          <p:cNvSpPr/>
          <p:nvPr/>
        </p:nvSpPr>
        <p:spPr>
          <a:xfrm>
            <a:off x="2278080" y="73188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UADRO 21 QUALIFICHE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20">
            <a:hlinkClick r:id="rId1"/>
          </p:cNvPr>
          <p:cNvSpPr/>
          <p:nvPr/>
        </p:nvSpPr>
        <p:spPr>
          <a:xfrm>
            <a:off x="8420040" y="5994360"/>
            <a:ext cx="330120" cy="292320"/>
          </a:xfrm>
          <a:prstGeom prst="rightArrow">
            <a:avLst>
              <a:gd name="adj1" fmla="val 50000"/>
              <a:gd name="adj2" fmla="val 282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4"/>
          <p:cNvSpPr/>
          <p:nvPr/>
        </p:nvSpPr>
        <p:spPr>
          <a:xfrm>
            <a:off x="698400" y="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Licei – Struttura del percorso quinquen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7">
            <a:hlinkClick r:id="rId1" action="ppaction://hlinksldjump"/>
          </p:cNvPr>
          <p:cNvSpPr/>
          <p:nvPr/>
        </p:nvSpPr>
        <p:spPr>
          <a:xfrm>
            <a:off x="381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8">
            <a:hlinkClick r:id="rId2" action="ppaction://hlinksldjump"/>
          </p:cNvPr>
          <p:cNvSpPr/>
          <p:nvPr/>
        </p:nvSpPr>
        <p:spPr>
          <a:xfrm>
            <a:off x="3301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9">
            <a:hlinkClick r:id="rId3" action="ppaction://hlinksldjump"/>
          </p:cNvPr>
          <p:cNvSpPr/>
          <p:nvPr/>
        </p:nvSpPr>
        <p:spPr>
          <a:xfrm>
            <a:off x="6224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0">
            <a:hlinkClick r:id="rId4" action="ppaction://hlinksldjump"/>
          </p:cNvPr>
          <p:cNvSpPr/>
          <p:nvPr/>
        </p:nvSpPr>
        <p:spPr>
          <a:xfrm>
            <a:off x="9144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1">
            <a:hlinkClick r:id="rId5" action="ppaction://hlinksldjump"/>
          </p:cNvPr>
          <p:cNvSpPr/>
          <p:nvPr/>
        </p:nvSpPr>
        <p:spPr>
          <a:xfrm>
            <a:off x="12063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2">
            <a:hlinkClick r:id="rId6" action="ppaction://hlinksldjump"/>
          </p:cNvPr>
          <p:cNvSpPr/>
          <p:nvPr/>
        </p:nvSpPr>
        <p:spPr>
          <a:xfrm>
            <a:off x="14986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3">
            <a:hlinkClick r:id="rId7" action="ppaction://hlinksldjump"/>
          </p:cNvPr>
          <p:cNvSpPr/>
          <p:nvPr/>
        </p:nvSpPr>
        <p:spPr>
          <a:xfrm>
            <a:off x="17906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4">
            <a:hlinkClick r:id="rId8" action="ppaction://hlinksldjump"/>
          </p:cNvPr>
          <p:cNvSpPr/>
          <p:nvPr/>
        </p:nvSpPr>
        <p:spPr>
          <a:xfrm>
            <a:off x="20829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5">
            <a:hlinkClick r:id="rId9" action="ppaction://hlinksldjump"/>
          </p:cNvPr>
          <p:cNvSpPr/>
          <p:nvPr/>
        </p:nvSpPr>
        <p:spPr>
          <a:xfrm>
            <a:off x="23749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6">
            <a:hlinkClick r:id="rId10" action="ppaction://hlinksldjump"/>
          </p:cNvPr>
          <p:cNvSpPr/>
          <p:nvPr/>
        </p:nvSpPr>
        <p:spPr>
          <a:xfrm>
            <a:off x="26668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7">
            <a:hlinkClick r:id="rId11" action="ppaction://hlinksldjump"/>
          </p:cNvPr>
          <p:cNvSpPr/>
          <p:nvPr/>
        </p:nvSpPr>
        <p:spPr>
          <a:xfrm>
            <a:off x="29592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8">
            <a:hlinkClick r:id="rId12" action="ppaction://hlinksldjump"/>
          </p:cNvPr>
          <p:cNvSpPr/>
          <p:nvPr/>
        </p:nvSpPr>
        <p:spPr>
          <a:xfrm>
            <a:off x="32511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9">
            <a:hlinkClick r:id="rId13" action="ppaction://hlinksldjump"/>
          </p:cNvPr>
          <p:cNvSpPr/>
          <p:nvPr/>
        </p:nvSpPr>
        <p:spPr>
          <a:xfrm>
            <a:off x="35434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0">
            <a:hlinkClick r:id="rId14" action="ppaction://hlinksldjump"/>
          </p:cNvPr>
          <p:cNvSpPr/>
          <p:nvPr/>
        </p:nvSpPr>
        <p:spPr>
          <a:xfrm>
            <a:off x="383544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1">
            <a:hlinkClick r:id="rId15" action="ppaction://hlinksldjump"/>
          </p:cNvPr>
          <p:cNvSpPr/>
          <p:nvPr/>
        </p:nvSpPr>
        <p:spPr>
          <a:xfrm>
            <a:off x="412740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2">
            <a:hlinkClick r:id="rId16" action="ppaction://hlinksldjump"/>
          </p:cNvPr>
          <p:cNvSpPr/>
          <p:nvPr/>
        </p:nvSpPr>
        <p:spPr>
          <a:xfrm>
            <a:off x="441972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3">
            <a:hlinkClick r:id="rId17" action="ppaction://hlinksldjump"/>
          </p:cNvPr>
          <p:cNvSpPr/>
          <p:nvPr/>
        </p:nvSpPr>
        <p:spPr>
          <a:xfrm>
            <a:off x="47116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4">
            <a:hlinkClick r:id="rId18" action="ppaction://hlinksldjump"/>
          </p:cNvPr>
          <p:cNvSpPr/>
          <p:nvPr/>
        </p:nvSpPr>
        <p:spPr>
          <a:xfrm>
            <a:off x="500364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5">
            <a:hlinkClick r:id="rId19" action="ppaction://hlinksldjump"/>
          </p:cNvPr>
          <p:cNvSpPr/>
          <p:nvPr/>
        </p:nvSpPr>
        <p:spPr>
          <a:xfrm>
            <a:off x="529596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6">
            <a:hlinkClick r:id="rId20" action="ppaction://hlinksldjump"/>
          </p:cNvPr>
          <p:cNvSpPr/>
          <p:nvPr/>
        </p:nvSpPr>
        <p:spPr>
          <a:xfrm>
            <a:off x="558792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7">
            <a:hlinkClick r:id="rId21" action="ppaction://hlinksldjump"/>
          </p:cNvPr>
          <p:cNvSpPr/>
          <p:nvPr/>
        </p:nvSpPr>
        <p:spPr>
          <a:xfrm>
            <a:off x="588024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8">
            <a:hlinkClick r:id="rId22" action="ppaction://hlinksldjump"/>
          </p:cNvPr>
          <p:cNvSpPr/>
          <p:nvPr/>
        </p:nvSpPr>
        <p:spPr>
          <a:xfrm>
            <a:off x="617220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9">
            <a:hlinkClick r:id="rId23" action="ppaction://hlinksldjump"/>
          </p:cNvPr>
          <p:cNvSpPr/>
          <p:nvPr/>
        </p:nvSpPr>
        <p:spPr>
          <a:xfrm>
            <a:off x="646416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0">
            <a:hlinkClick r:id="rId24" action="ppaction://hlinksldjump"/>
          </p:cNvPr>
          <p:cNvSpPr/>
          <p:nvPr/>
        </p:nvSpPr>
        <p:spPr>
          <a:xfrm>
            <a:off x="675648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1">
            <a:hlinkClick r:id="rId25" action="ppaction://hlinksldjump"/>
          </p:cNvPr>
          <p:cNvSpPr/>
          <p:nvPr/>
        </p:nvSpPr>
        <p:spPr>
          <a:xfrm>
            <a:off x="7048440" y="6553080"/>
            <a:ext cx="2923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2">
            <a:hlinkClick r:id="rId26" action="ppaction://hlinksldjump"/>
          </p:cNvPr>
          <p:cNvSpPr/>
          <p:nvPr/>
        </p:nvSpPr>
        <p:spPr>
          <a:xfrm>
            <a:off x="7340760" y="6553080"/>
            <a:ext cx="29196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3">
            <a:hlinkClick r:id="rId27" action="ppaction://hlinksldjump"/>
          </p:cNvPr>
          <p:cNvSpPr/>
          <p:nvPr/>
        </p:nvSpPr>
        <p:spPr>
          <a:xfrm>
            <a:off x="763272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4">
            <a:hlinkClick r:id="rId28" action="ppaction://hlinksldjump"/>
          </p:cNvPr>
          <p:cNvSpPr/>
          <p:nvPr/>
        </p:nvSpPr>
        <p:spPr>
          <a:xfrm>
            <a:off x="792468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5">
            <a:hlinkClick r:id="rId29" action="ppaction://hlinksldjump"/>
          </p:cNvPr>
          <p:cNvSpPr/>
          <p:nvPr/>
        </p:nvSpPr>
        <p:spPr>
          <a:xfrm>
            <a:off x="821700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6">
            <a:hlinkClick r:id="rId30" action="ppaction://hlinksldjump"/>
          </p:cNvPr>
          <p:cNvSpPr/>
          <p:nvPr/>
        </p:nvSpPr>
        <p:spPr>
          <a:xfrm>
            <a:off x="8508960" y="6553080"/>
            <a:ext cx="292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7">
            <a:hlinkClick r:id="rId31" action="ppaction://hlinksldjump"/>
          </p:cNvPr>
          <p:cNvSpPr/>
          <p:nvPr/>
        </p:nvSpPr>
        <p:spPr>
          <a:xfrm>
            <a:off x="8801280" y="6553080"/>
            <a:ext cx="2919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8"/>
          <p:cNvSpPr/>
          <p:nvPr/>
        </p:nvSpPr>
        <p:spPr>
          <a:xfrm>
            <a:off x="701640" y="93492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percorso è articolato in: 2 bienni e 1 quinto 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303120" y="1709640"/>
            <a:ext cx="8594640" cy="43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2440" indent="-622440">
              <a:spcBef>
                <a:spcPts val="1001"/>
              </a:spcBef>
              <a:buSzPct val="10279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Il 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  <a:ea typeface="Calibri"/>
              </a:rPr>
              <a:t>primo biennio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 è finalizzato  a un primo approfondimento e sviluppo delle conoscenze e delle abilità e a una prima maturazione delle competenze caratterizzanti le singole articolazioni del sistema liceale e all’assolvimento dell’obbligo di istruzione (Regolamento n. 139 del 22 agos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spcBef>
                <a:spcPts val="1001"/>
              </a:spcBef>
              <a:buSzPct val="10279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Il 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  <a:ea typeface="Calibri"/>
              </a:rPr>
              <a:t>secondo biennio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 è finalizzato all’approfondimento e allo sviluppo delle conoscenze e delle abilità e alla maturazione delle competenze caratterizzanti le singole articolazioni del sistema lice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spcBef>
                <a:spcPts val="1001"/>
              </a:spcBef>
              <a:buSzPct val="10279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Nel 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  <a:ea typeface="Calibri"/>
              </a:rPr>
              <a:t>quinto anno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Calibri"/>
              </a:rPr>
              <a:t> si persegue la piena realizzazione del profilo educativo, culturale e professionale dello studente e si consolida il percorso di orientamento agli studi successivi e all’inserimento ne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2:10Z</dcterms:created>
  <dc:creator>win</dc:creator>
  <dc:description/>
  <dc:language>en-US</dc:language>
  <cp:lastModifiedBy>Renato</cp:lastModifiedBy>
  <dcterms:modified xsi:type="dcterms:W3CDTF">2014-05-05T10:49:56Z</dcterms:modified>
  <cp:revision>355</cp:revision>
  <dc:subject/>
  <dc:title>Diapositiva 1</dc:title>
</cp:coreProperties>
</file>