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8FC4-C66C-4C6F-A799-46541A700735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CA61-5853-414B-ACD6-BA652C1611BC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5C43-ACC6-441C-B4D1-00B4D9CA6E1C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F157-1DC3-498C-9E8C-74300CC7C1C5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c79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c79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2"/>
          <p:cNvSpPr/>
          <p:nvPr/>
        </p:nvSpPr>
        <p:spPr>
          <a:xfrm>
            <a:off x="6804000" y="2708280"/>
            <a:ext cx="0" cy="28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40"/>
          <p:cNvSpPr/>
          <p:nvPr/>
        </p:nvSpPr>
        <p:spPr>
          <a:xfrm>
            <a:off x="304920" y="278136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ttangolo 1"/>
          <p:cNvSpPr/>
          <p:nvPr/>
        </p:nvSpPr>
        <p:spPr>
          <a:xfrm>
            <a:off x="466560" y="1866960"/>
            <a:ext cx="8155080" cy="4795920"/>
          </a:xfrm>
          <a:prstGeom prst="rect">
            <a:avLst/>
          </a:prstGeom>
          <a:gradFill rotWithShape="0">
            <a:gsLst>
              <a:gs pos="0">
                <a:srgbClr val="ffdc7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728640" y="2165400"/>
            <a:ext cx="504720" cy="384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560600" y="2106720"/>
            <a:ext cx="63961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ocumentazione che accompagna il processo di inclu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728640" y="2685960"/>
            <a:ext cx="504720" cy="384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560600" y="2697120"/>
            <a:ext cx="6396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ocumentazione da prod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728640" y="3197160"/>
            <a:ext cx="504720" cy="384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560600" y="3208320"/>
            <a:ext cx="63961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Il linguaggio usato nella documentazione- I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33320" y="3701880"/>
            <a:ext cx="505080" cy="384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1565280" y="3713040"/>
            <a:ext cx="6391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escrivere il funzionamento dell’alunno- I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733320" y="4195800"/>
            <a:ext cx="505080" cy="384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565280" y="4206960"/>
            <a:ext cx="63914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escrivere i fattori ambientali che influiscono- I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728640" y="5246640"/>
            <a:ext cx="504720" cy="4636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728640" y="5770440"/>
            <a:ext cx="504720" cy="4636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magine 4" descr="D:\Users\mi14227\Desktop\Copertina immagine\logo ritagliato e sfumato (2).jpg"/>
          <p:cNvPicPr/>
          <p:nvPr/>
        </p:nvPicPr>
        <p:blipFill>
          <a:blip r:embed="rId1"/>
          <a:stretch/>
        </p:blipFill>
        <p:spPr>
          <a:xfrm>
            <a:off x="8077320" y="378000"/>
            <a:ext cx="822240" cy="879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/>
          <p:cNvSpPr/>
          <p:nvPr/>
        </p:nvSpPr>
        <p:spPr>
          <a:xfrm>
            <a:off x="1560600" y="5289480"/>
            <a:ext cx="6396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Il docente assegnato alle attività di sosteg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60600" y="5851440"/>
            <a:ext cx="6396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Valutazione degli alunni con disabilità (L. 104/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733320" y="4689360"/>
            <a:ext cx="505080" cy="384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1565280" y="4700520"/>
            <a:ext cx="6391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Applicazione dell’ICF nel PDF e 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88800" y="847800"/>
            <a:ext cx="8312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ff"/>
                </a:solidFill>
                <a:latin typeface="Arial"/>
              </a:rPr>
              <a:t>«Realizzare una Scuola Inclusiva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00ff"/>
                </a:solidFill>
                <a:latin typeface="Arial"/>
              </a:rPr>
              <a:t>Procedure e strumenti per l’inclusione degli alunni con disabilità L104/9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279360" y="138240"/>
            <a:ext cx="83422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Arial"/>
              </a:rPr>
              <a:t>Istituto Comprensivo di Cappella Maggi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Arial"/>
              </a:rPr>
              <a:t>a.s. 2019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1835280" y="1325520"/>
            <a:ext cx="5329080" cy="6094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3300"/>
                </a:solidFill>
                <a:latin typeface="Arial"/>
              </a:rPr>
              <a:t>Fattori ambient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439560" y="2990880"/>
            <a:ext cx="3888000" cy="576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9900"/>
                </a:solidFill>
                <a:latin typeface="Arial"/>
              </a:rPr>
              <a:t>Prodotti e tec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423720" y="4416480"/>
            <a:ext cx="8310600" cy="6350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9900"/>
                </a:solidFill>
                <a:latin typeface="Arial"/>
              </a:rPr>
              <a:t>Ambiente naturale e cambiamenti ambientali effettuati dall’u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439560" y="3689280"/>
            <a:ext cx="3888000" cy="649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9900"/>
                </a:solidFill>
                <a:latin typeface="Arial"/>
              </a:rPr>
              <a:t>Relazioni e sostegno soc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4832280" y="3722760"/>
            <a:ext cx="3888000" cy="576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9900"/>
                </a:solidFill>
                <a:latin typeface="Arial"/>
              </a:rPr>
              <a:t>Servizi, sistemi e poli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4832280" y="2990880"/>
            <a:ext cx="3888000" cy="5904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9900"/>
                </a:solidFill>
                <a:latin typeface="Arial"/>
              </a:rPr>
              <a:t>Atteggia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295200" y="2774880"/>
            <a:ext cx="8569440" cy="2487600"/>
          </a:xfrm>
          <a:prstGeom prst="rect">
            <a:avLst/>
          </a:pr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5"/>
          <p:cNvSpPr/>
          <p:nvPr/>
        </p:nvSpPr>
        <p:spPr>
          <a:xfrm>
            <a:off x="3994200" y="2087640"/>
            <a:ext cx="863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1143000" y="290520"/>
            <a:ext cx="78566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Descrivere i fattori ambientali che influenzano il funzionamento dell’alun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423720" y="414360"/>
            <a:ext cx="533520" cy="393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ttangolo 1"/>
          <p:cNvSpPr/>
          <p:nvPr/>
        </p:nvSpPr>
        <p:spPr>
          <a:xfrm>
            <a:off x="658800" y="1957320"/>
            <a:ext cx="3665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7547"/>
                </a:solidFill>
                <a:latin typeface="Arial"/>
              </a:rPr>
              <a:t>BARRIE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ttori che, mediante la loro presenza o assenza, limitano il funzionamento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reano disabilità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ttangolo 3"/>
          <p:cNvSpPr/>
          <p:nvPr/>
        </p:nvSpPr>
        <p:spPr>
          <a:xfrm>
            <a:off x="4603680" y="1957320"/>
            <a:ext cx="3913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800" spc="-1" strike="noStrike">
                <a:solidFill>
                  <a:srgbClr val="ff7547"/>
                </a:solidFill>
                <a:latin typeface="Arial"/>
              </a:rPr>
              <a:t>FACILITATORI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ttori ch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diante la loro presenza o assenza, migliorano il funzionamento e riducono la disabil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998640" y="339840"/>
            <a:ext cx="78562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Descrivere i fattori ambientali che influenzano il funzionamento dell’alun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279360" y="463680"/>
            <a:ext cx="533520" cy="393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192240" y="185040"/>
            <a:ext cx="53244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lazione A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na  è seguita presso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il Presidio di Riabilitazione per disturbo dell’attenzione e iperattivit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ADHD) e grave disturbo degli apprendimenti scolasti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a terminato la frequenza della scuola primaria,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mpagnata da insegnante di sostegn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on un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rogramma individualizza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È stata seguita in ambito riabilitativo con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trattamenti per il potenziamento delle funzioni attentiv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cicli per il recupero delle difficoltà di apprendimento della lettura e scrittura.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l calcolo è stata avviat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ll’uso della calcolatric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vi sono problemi relazionali,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in classe è ben integrat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consapevole delle sue difficoltà, vive serenamente gli aiuti forniti. Ben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inserita a livello soci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frequenta attività spor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È stata avviata all’uso di strumenti compensativi quali il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computer per la scrittur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i libri digital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intesi vo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a raggiunto un buona autonomia nel loro utilizzo, m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non lo porta a scuola per poca disponibilità degli insegnant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he temono un confronto negativo con la cla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La famiglia si è sempre resa disponibile a collabora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ha fornito tutti gli strumenti necessari, sostiene Anna nei compiti a casa con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una persona predispost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umetto 2 3"/>
          <p:cNvSpPr/>
          <p:nvPr/>
        </p:nvSpPr>
        <p:spPr>
          <a:xfrm>
            <a:off x="6135840" y="210960"/>
            <a:ext cx="3008160" cy="721080"/>
          </a:xfrm>
          <a:prstGeom prst="wedgeRoundRectCallout">
            <a:avLst>
              <a:gd name="adj1" fmla="val -71902"/>
              <a:gd name="adj2" fmla="val -6305"/>
              <a:gd name="adj3" fmla="val 16667"/>
            </a:avLst>
          </a:prstGeom>
          <a:solidFill>
            <a:srgbClr val="fb3b1c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rvizi, sistemi e politich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a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umetto 2 4"/>
          <p:cNvSpPr/>
          <p:nvPr/>
        </p:nvSpPr>
        <p:spPr>
          <a:xfrm>
            <a:off x="6135840" y="1004760"/>
            <a:ext cx="3008160" cy="1224000"/>
          </a:xfrm>
          <a:prstGeom prst="wedgeRoundRectCallout">
            <a:avLst>
              <a:gd name="adj1" fmla="val -73162"/>
              <a:gd name="adj2" fmla="val -17773"/>
              <a:gd name="adj3" fmla="val 16667"/>
            </a:avLst>
          </a:prstGeom>
          <a:solidFill>
            <a:srgbClr val="fb3b1c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lazioni e sostegno soci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- persone in posizione di autor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umetto 2 6"/>
          <p:cNvSpPr/>
          <p:nvPr/>
        </p:nvSpPr>
        <p:spPr>
          <a:xfrm>
            <a:off x="6135840" y="2290680"/>
            <a:ext cx="3008160" cy="658800"/>
          </a:xfrm>
          <a:prstGeom prst="wedgeRoundRectCallout">
            <a:avLst>
              <a:gd name="adj1" fmla="val -73250"/>
              <a:gd name="adj2" fmla="val -41578"/>
              <a:gd name="adj3" fmla="val 16667"/>
            </a:avLst>
          </a:prstGeom>
          <a:solidFill>
            <a:srgbClr val="fb3b1c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rvizi, sistemi e politich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umetto 2 7"/>
          <p:cNvSpPr/>
          <p:nvPr/>
        </p:nvSpPr>
        <p:spPr>
          <a:xfrm>
            <a:off x="6135840" y="3921120"/>
            <a:ext cx="3008160" cy="650880"/>
          </a:xfrm>
          <a:prstGeom prst="wedgeRoundRectCallout">
            <a:avLst>
              <a:gd name="adj1" fmla="val -71722"/>
              <a:gd name="adj2" fmla="val -10208"/>
              <a:gd name="adj3" fmla="val 16667"/>
            </a:avLst>
          </a:prstGeom>
          <a:solidFill>
            <a:srgbClr val="fb3b1c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odotti e tecnolog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umetto 2 8"/>
          <p:cNvSpPr/>
          <p:nvPr/>
        </p:nvSpPr>
        <p:spPr>
          <a:xfrm>
            <a:off x="6135840" y="3000240"/>
            <a:ext cx="3008160" cy="801720"/>
          </a:xfrm>
          <a:prstGeom prst="wedgeRoundRectCallout">
            <a:avLst>
              <a:gd name="adj1" fmla="val -72148"/>
              <a:gd name="adj2" fmla="val -15800"/>
              <a:gd name="adj3" fmla="val 16667"/>
            </a:avLst>
          </a:prstGeom>
          <a:solidFill>
            <a:srgbClr val="fb3b1c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lazioni e sostegno soci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- compagni di 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umetto 2 9"/>
          <p:cNvSpPr/>
          <p:nvPr/>
        </p:nvSpPr>
        <p:spPr>
          <a:xfrm>
            <a:off x="6135840" y="4699080"/>
            <a:ext cx="3008160" cy="844560"/>
          </a:xfrm>
          <a:prstGeom prst="wedgeRoundRectCallout">
            <a:avLst>
              <a:gd name="adj1" fmla="val -71356"/>
              <a:gd name="adj2" fmla="val -9587"/>
              <a:gd name="adj3" fmla="val 16667"/>
            </a:avLst>
          </a:prstGeom>
          <a:solidFill>
            <a:srgbClr val="fb3b1c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tteggiamen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- persone in posizione di autor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umetto 2 10"/>
          <p:cNvSpPr/>
          <p:nvPr/>
        </p:nvSpPr>
        <p:spPr>
          <a:xfrm>
            <a:off x="6135840" y="5670720"/>
            <a:ext cx="3008160" cy="620640"/>
          </a:xfrm>
          <a:prstGeom prst="wedgeRoundRectCallout">
            <a:avLst>
              <a:gd name="adj1" fmla="val -70930"/>
              <a:gd name="adj2" fmla="val -10240"/>
              <a:gd name="adj3" fmla="val 16667"/>
            </a:avLst>
          </a:prstGeom>
          <a:solidFill>
            <a:srgbClr val="fb3b1c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tteggiame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- della famiglia ristr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279360" y="976320"/>
          <a:ext cx="8643960" cy="5711760"/>
        </p:xfrm>
        <a:graphic>
          <a:graphicData uri="http://schemas.openxmlformats.org/drawingml/2006/table">
            <a:tbl>
              <a:tblPr/>
              <a:tblGrid>
                <a:gridCol w="3092400"/>
                <a:gridCol w="505080"/>
                <a:gridCol w="479160"/>
                <a:gridCol w="455760"/>
                <a:gridCol w="409680"/>
                <a:gridCol w="434880"/>
                <a:gridCol w="484200"/>
                <a:gridCol w="2782800"/>
              </a:tblGrid>
              <a:tr h="640440">
                <a:tc gridSpan="6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 pa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onda pa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ettivi prioritari di sviluppo con riferimento ai contesti di v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8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) AREA COGNITIVA E DELL’APPRENDI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Apprendimento di base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30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i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31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arare attraverso azioni con ogget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313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arare attraverso il gioco simbo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35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pet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40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arare a legg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5" name="Rectangle 11"/>
          <p:cNvSpPr/>
          <p:nvPr/>
        </p:nvSpPr>
        <p:spPr>
          <a:xfrm>
            <a:off x="279360" y="244440"/>
            <a:ext cx="504720" cy="384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993600" y="244440"/>
            <a:ext cx="7459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70c0"/>
                </a:solidFill>
                <a:latin typeface="Arial"/>
              </a:rPr>
              <a:t>Applicazione dell’ICF - Profilo Dinamico Funzionale/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471600" y="1228680"/>
          <a:ext cx="8229600" cy="5486400"/>
        </p:xfrm>
        <a:graphic>
          <a:graphicData uri="http://schemas.openxmlformats.org/drawingml/2006/table">
            <a:tbl>
              <a:tblPr/>
              <a:tblGrid>
                <a:gridCol w="4146480"/>
                <a:gridCol w="331920"/>
                <a:gridCol w="330120"/>
                <a:gridCol w="330120"/>
                <a:gridCol w="331920"/>
                <a:gridCol w="275904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tori ambient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serv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dicare i fattori ambientali sui quali interveni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1101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Farm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1152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Prodotti e tecnologie utilizzati per il gio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1251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Prodotti e tecnologia di assistenza per la comunic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130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Prodotti e tecnologie generali per l’istru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1301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otti e tecnologia di assistenza per l’istru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135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otti e tecnologie per il lavo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2255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zioni stagion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24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L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133"/>
          <p:cNvSpPr/>
          <p:nvPr/>
        </p:nvSpPr>
        <p:spPr>
          <a:xfrm>
            <a:off x="243000" y="7963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a cognitiva e dell’apprendimento – Fattori ambientali (1 di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279360" y="244440"/>
            <a:ext cx="504720" cy="384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993600" y="244440"/>
            <a:ext cx="7459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70c0"/>
                </a:solidFill>
                <a:latin typeface="Arial"/>
              </a:rPr>
              <a:t>Applicazione dell’ICF - Profilo Dinamico Funzionale/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257040" y="1432080"/>
          <a:ext cx="8688600" cy="5029200"/>
        </p:xfrm>
        <a:graphic>
          <a:graphicData uri="http://schemas.openxmlformats.org/drawingml/2006/table">
            <a:tbl>
              <a:tblPr/>
              <a:tblGrid>
                <a:gridCol w="4649760"/>
                <a:gridCol w="379440"/>
                <a:gridCol w="336600"/>
                <a:gridCol w="487440"/>
                <a:gridCol w="395280"/>
                <a:gridCol w="24400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tori ambient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serv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25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Su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1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Famiglia ristret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25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Conoscenti, colleghi (compagni di classe), vicini di casa e membri della comun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3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Persone in posizione di autor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4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ersone che forniscono aiuto e assist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6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Altri operat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41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Atteggiamenti individuali dei componenti della famiglia ristret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425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Atteggiamenti individuali di conoscenti, compagni di classe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2" name="Rectangle 693"/>
          <p:cNvSpPr/>
          <p:nvPr/>
        </p:nvSpPr>
        <p:spPr>
          <a:xfrm>
            <a:off x="235080" y="7660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a cognitiva e dell’apprendimento – Fattori ambientali (2 di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279360" y="244440"/>
            <a:ext cx="504720" cy="384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993600" y="244440"/>
            <a:ext cx="7459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70c0"/>
                </a:solidFill>
                <a:latin typeface="Arial"/>
              </a:rPr>
              <a:t>Applicazione dell’ICF - Profilo Dinamico Funzionale/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ttangolo 2"/>
          <p:cNvSpPr/>
          <p:nvPr/>
        </p:nvSpPr>
        <p:spPr>
          <a:xfrm>
            <a:off x="223920" y="785880"/>
            <a:ext cx="791028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7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vvertenze per la compilazion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237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tegor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 situazione viene descritta dagli operatori dei Servizi e dai docenti secondo la seguente scal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37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 nessun problema (rilevato dalle valutazioni eseguit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37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 problema liev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37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 problema medi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37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 problema grav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37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 problema compl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237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 la famiglia si inserisc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assenza di problema percepito;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 viene percepito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ttori ambient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iene tracciata una crocetta nell’apposito quadretto per indicare il ruolo di ciascun fattore ambientale (barriera o facilitatore). Lasciare vuoto il quadretto se il fattore ambientale non è rilevante per la situazione dell’alunno/studente oppure se non si possiedono informazio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7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facilitat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barr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ttangolo 5"/>
          <p:cNvSpPr/>
          <p:nvPr/>
        </p:nvSpPr>
        <p:spPr>
          <a:xfrm>
            <a:off x="120600" y="5529240"/>
            <a:ext cx="238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s = Servi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 = Doc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= Famig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ttangolo 8"/>
          <p:cNvSpPr/>
          <p:nvPr/>
        </p:nvSpPr>
        <p:spPr>
          <a:xfrm>
            <a:off x="2381400" y="577044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 = 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 = problema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s = possibilità di svil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ttangolo 10"/>
          <p:cNvSpPr/>
          <p:nvPr/>
        </p:nvSpPr>
        <p:spPr>
          <a:xfrm>
            <a:off x="266760" y="5511960"/>
            <a:ext cx="8575560" cy="1207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279360" y="244440"/>
            <a:ext cx="504720" cy="384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993600" y="244440"/>
            <a:ext cx="6205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70c0"/>
                </a:solidFill>
                <a:latin typeface="Arial"/>
              </a:rPr>
              <a:t>Applicazione dell’ICF - Profilo Dinamico Fun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214200" y="2674800"/>
          <a:ext cx="8742600" cy="3856320"/>
        </p:xfrm>
        <a:graphic>
          <a:graphicData uri="http://schemas.openxmlformats.org/drawingml/2006/table">
            <a:tbl>
              <a:tblPr/>
              <a:tblGrid>
                <a:gridCol w="1692360"/>
                <a:gridCol w="2579760"/>
                <a:gridCol w="1552680"/>
                <a:gridCol w="1398600"/>
                <a:gridCol w="1519200"/>
              </a:tblGrid>
              <a:tr h="49068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ENTO -SCU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ENTO -EQU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ENTO-FAMIG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ENTO EXTRA-SCU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IVITA’, METODOLOGIE E FATTORI AMBIENT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I DI REALIZZ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IFICA: TEMPI E STRU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SULTATI ATTE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ttangolo 6"/>
          <p:cNvSpPr/>
          <p:nvPr/>
        </p:nvSpPr>
        <p:spPr>
          <a:xfrm>
            <a:off x="198360" y="1392120"/>
            <a:ext cx="176868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gnitiva e dell’apprend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tangolo 5"/>
          <p:cNvSpPr/>
          <p:nvPr/>
        </p:nvSpPr>
        <p:spPr>
          <a:xfrm>
            <a:off x="2017800" y="1384200"/>
            <a:ext cx="144936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ttangolo 4"/>
          <p:cNvSpPr/>
          <p:nvPr/>
        </p:nvSpPr>
        <p:spPr>
          <a:xfrm>
            <a:off x="3540240" y="1371600"/>
            <a:ext cx="122868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l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ttangolo 3"/>
          <p:cNvSpPr/>
          <p:nvPr/>
        </p:nvSpPr>
        <p:spPr>
          <a:xfrm>
            <a:off x="4843440" y="1370160"/>
            <a:ext cx="122868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torio-pras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tangolo 2"/>
          <p:cNvSpPr/>
          <p:nvPr/>
        </p:nvSpPr>
        <p:spPr>
          <a:xfrm>
            <a:off x="6148440" y="1374840"/>
            <a:ext cx="1227240" cy="5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utonomia pers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tangolo 1"/>
          <p:cNvSpPr/>
          <p:nvPr/>
        </p:nvSpPr>
        <p:spPr>
          <a:xfrm>
            <a:off x="7445520" y="1370160"/>
            <a:ext cx="1577880" cy="54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ree di vita princip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150840" y="74556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EDA DI PIAN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4360" y="1019520"/>
            <a:ext cx="779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909144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E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04840" y="2053080"/>
            <a:ext cx="8818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909144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IETTIVI PRIORITARI DI SVILUPPO: ___________________________________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144360" y="237960"/>
            <a:ext cx="505080" cy="384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649440" y="212760"/>
            <a:ext cx="7457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70c0"/>
                </a:solidFill>
                <a:latin typeface="Arial"/>
              </a:rPr>
              <a:t>Applicazione dell’ICF – Piano Educativo Individualizzato/Mod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279360" y="976320"/>
          <a:ext cx="8643960" cy="5711760"/>
        </p:xfrm>
        <a:graphic>
          <a:graphicData uri="http://schemas.openxmlformats.org/drawingml/2006/table">
            <a:tbl>
              <a:tblPr/>
              <a:tblGrid>
                <a:gridCol w="3092400"/>
                <a:gridCol w="505080"/>
                <a:gridCol w="479160"/>
                <a:gridCol w="455760"/>
                <a:gridCol w="409680"/>
                <a:gridCol w="434880"/>
                <a:gridCol w="484200"/>
                <a:gridCol w="2782800"/>
              </a:tblGrid>
              <a:tr h="640440">
                <a:tc gridSpan="6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 pa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onda pa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ettivi prioritari di sviluppo con riferimento ai contesti di v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gridSpan="8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AREA RELAZIO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40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Gestire la tensione ed altre richieste di tipo psic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ziare la capacità di controllo del comport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400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ire le responsabili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401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ire lo st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800">
                <a:tc>
                  <a:txBody>
                    <a:bodyPr lIns="68760" rIns="68760" tIns="0" bIns="0" anchor="ctr">
                      <a:noAutofit/>
                    </a:bodyPr>
                    <a:p>
                      <a:pPr marL="434880" indent="-4348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50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Controllare il proprio comport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500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ettare la novi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501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spondere alle richi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4" name="Rectangle 11"/>
          <p:cNvSpPr/>
          <p:nvPr/>
        </p:nvSpPr>
        <p:spPr>
          <a:xfrm>
            <a:off x="279360" y="244440"/>
            <a:ext cx="504720" cy="384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993600" y="244440"/>
            <a:ext cx="7118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70c0"/>
                </a:solidFill>
                <a:latin typeface="Arial"/>
              </a:rPr>
              <a:t>Applicazione dell’ICF - Profilo Dinamico Funzionale/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7040" y="1432080"/>
          <a:ext cx="8688600" cy="5029200"/>
        </p:xfrm>
        <a:graphic>
          <a:graphicData uri="http://schemas.openxmlformats.org/drawingml/2006/table">
            <a:tbl>
              <a:tblPr/>
              <a:tblGrid>
                <a:gridCol w="4649760"/>
                <a:gridCol w="379440"/>
                <a:gridCol w="336600"/>
                <a:gridCol w="487440"/>
                <a:gridCol w="395280"/>
                <a:gridCol w="24400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tori ambient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serv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25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Su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tturare le attività didattiche in modo da favorire l’interazione positiv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1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Famiglia ristret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25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Conoscenti, colleghi (compagni di classe), vicini di casa e membri della comun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3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Persone in posizione di autor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4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ersone che forniscono aiuto e assist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6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Altri operat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41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Atteggiamenti individuali dei componenti della famiglia ristret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425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Atteggiamenti individuali di conoscenti, compagni di classe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7" name="Rectangle 693"/>
          <p:cNvSpPr/>
          <p:nvPr/>
        </p:nvSpPr>
        <p:spPr>
          <a:xfrm>
            <a:off x="235080" y="7660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a cognitiva e dell’apprendimento – Fattori ambientali (2 di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279360" y="244440"/>
            <a:ext cx="504720" cy="384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993600" y="244440"/>
            <a:ext cx="7118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70c0"/>
                </a:solidFill>
                <a:latin typeface="Arial"/>
              </a:rPr>
              <a:t>Applicazione dell’ICF - Profilo Dinamico Funzionale/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2038320" y="1957320"/>
            <a:ext cx="5433840" cy="3581280"/>
            <a:chOff x="2038320" y="1957320"/>
            <a:chExt cx="5433840" cy="3581280"/>
          </a:xfrm>
        </p:grpSpPr>
        <p:grpSp>
          <p:nvGrpSpPr>
            <p:cNvPr id="107" name="Group 5"/>
            <p:cNvGrpSpPr/>
            <p:nvPr/>
          </p:nvGrpSpPr>
          <p:grpSpPr>
            <a:xfrm>
              <a:off x="2038320" y="1957320"/>
              <a:ext cx="4267080" cy="3581280"/>
              <a:chOff x="2038320" y="1957320"/>
              <a:chExt cx="4267080" cy="3581280"/>
            </a:xfrm>
          </p:grpSpPr>
          <p:sp>
            <p:nvSpPr>
              <p:cNvPr id="108" name="Rectangle 6"/>
              <p:cNvSpPr/>
              <p:nvPr/>
            </p:nvSpPr>
            <p:spPr>
              <a:xfrm>
                <a:off x="2211120" y="1957320"/>
                <a:ext cx="4079880" cy="279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2038320" y="3139920"/>
                <a:ext cx="1041120" cy="56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0000"/>
                    </a:solidFill>
                    <a:latin typeface="Arial Unicode MS"/>
                  </a:rPr>
                  <a:t>Analis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3308040" y="2050920"/>
                <a:ext cx="1930680" cy="52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cc9900"/>
                    </a:solidFill>
                    <a:latin typeface="Arial Unicode MS"/>
                  </a:rPr>
                  <a:t>Progettazi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3662280" y="2620800"/>
                <a:ext cx="1224000" cy="28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ff00"/>
                    </a:solidFill>
                    <a:latin typeface="Arial Unicode MS"/>
                  </a:rPr>
                  <a:t>obiettiv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3662280" y="2950920"/>
                <a:ext cx="1224000" cy="285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ff00"/>
                    </a:solidFill>
                    <a:latin typeface="Arial Unicode MS"/>
                  </a:rPr>
                  <a:t>azion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3662280" y="3282840"/>
                <a:ext cx="1224000" cy="28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ff00"/>
                    </a:solidFill>
                    <a:latin typeface="Arial Unicode MS"/>
                  </a:rPr>
                  <a:t>verific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3257280" y="2033640"/>
                <a:ext cx="1974960" cy="1611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2952720" y="5081400"/>
                <a:ext cx="26193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b050"/>
                    </a:solidFill>
                    <a:latin typeface="Arial Unicode MS"/>
                  </a:rPr>
                  <a:t>Documentazi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3181320" y="4041720"/>
                <a:ext cx="2108160" cy="568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00"/>
                    </a:solidFill>
                    <a:latin typeface="Arial Unicode MS"/>
                  </a:rPr>
                  <a:t>Miglioramen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7" name="AutoShape 15"/>
              <p:cNvCxnSpPr>
                <a:stCxn id="118" idx="1"/>
                <a:endCxn id="116" idx="3"/>
              </p:cNvCxnSpPr>
              <p:nvPr/>
            </p:nvCxnSpPr>
            <p:spPr>
              <a:xfrm rot="10800000">
                <a:off x="5289480" y="4325040"/>
                <a:ext cx="559080" cy="15120"/>
              </a:xfrm>
              <a:prstGeom prst="curvedConnector5">
                <a:avLst>
                  <a:gd name="adj1" fmla="val 50000"/>
                  <a:gd name="adj2" fmla="val 48780"/>
                  <a:gd name="adj3" fmla="val 50000"/>
                </a:avLst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19" name="AutoShape 16"/>
              <p:cNvCxnSpPr>
                <a:stCxn id="116" idx="0"/>
                <a:endCxn id="114" idx="2"/>
              </p:cNvCxnSpPr>
              <p:nvPr/>
            </p:nvCxnSpPr>
            <p:spPr>
              <a:xfrm flipH="1" flipV="1" rot="5400000">
                <a:off x="4041360" y="3838320"/>
                <a:ext cx="397440" cy="10080"/>
              </a:xfrm>
              <a:prstGeom prst="curvedConnector5">
                <a:avLst>
                  <a:gd name="adj1" fmla="val 49954"/>
                  <a:gd name="adj2" fmla="val 48148"/>
                  <a:gd name="adj3" fmla="val 49954"/>
                </a:avLst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0" name="AutoShape 17"/>
              <p:cNvCxnSpPr>
                <a:stCxn id="109" idx="0"/>
                <a:endCxn id="121" idx="1"/>
              </p:cNvCxnSpPr>
              <p:nvPr/>
            </p:nvCxnSpPr>
            <p:spPr>
              <a:xfrm flipH="1" flipV="1" rot="5400000">
                <a:off x="2564280" y="2446560"/>
                <a:ext cx="687960" cy="6991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1" name="Rectangle 18"/>
              <p:cNvSpPr/>
              <p:nvPr/>
            </p:nvSpPr>
            <p:spPr>
              <a:xfrm>
                <a:off x="3257280" y="2262240"/>
                <a:ext cx="5335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4705200" y="2262240"/>
                <a:ext cx="5335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5771880" y="3100320"/>
                <a:ext cx="5335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4" name="AutoShape 21"/>
              <p:cNvCxnSpPr>
                <a:stCxn id="122" idx="3"/>
                <a:endCxn id="123" idx="0"/>
              </p:cNvCxnSpPr>
              <p:nvPr/>
            </p:nvCxnSpPr>
            <p:spPr>
              <a:xfrm>
                <a:off x="5238720" y="2452320"/>
                <a:ext cx="800640" cy="64836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5" name="AutoShape 22"/>
              <p:cNvCxnSpPr>
                <a:stCxn id="115" idx="0"/>
                <a:endCxn id="116" idx="2"/>
              </p:cNvCxnSpPr>
              <p:nvPr/>
            </p:nvCxnSpPr>
            <p:spPr>
              <a:xfrm flipH="1" flipV="1">
                <a:off x="4234680" y="4609440"/>
                <a:ext cx="27720" cy="471960"/>
              </a:xfrm>
              <a:prstGeom prst="straightConnector1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26" name="Rectangle 23"/>
            <p:cNvSpPr/>
            <p:nvPr/>
          </p:nvSpPr>
          <p:spPr>
            <a:xfrm>
              <a:off x="5543280" y="3139920"/>
              <a:ext cx="1905120" cy="56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46a32"/>
                  </a:solidFill>
                  <a:latin typeface="Arial Unicode MS"/>
                </a:rPr>
                <a:t>Realizzazi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5848200" y="4054320"/>
              <a:ext cx="1623960" cy="56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ff"/>
                  </a:solidFill>
                  <a:latin typeface="Arial Unicode MS"/>
                </a:rPr>
                <a:t>Valutazi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26"/>
          <p:cNvSpPr/>
          <p:nvPr/>
        </p:nvSpPr>
        <p:spPr>
          <a:xfrm>
            <a:off x="85680" y="4822920"/>
            <a:ext cx="27576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Arial Unicode MS"/>
              </a:rPr>
              <a:t>Diagnosi fun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85680" y="5330880"/>
            <a:ext cx="27576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Arial Unicode MS"/>
              </a:rPr>
              <a:t>Profilo Dinamico Funzionale [A</a:t>
            </a:r>
            <a:r>
              <a:rPr b="0" lang="it-IT" sz="1800" spc="-1" strike="noStrike">
                <a:solidFill>
                  <a:srgbClr val="ff0000"/>
                </a:solidFill>
                <a:latin typeface="Arial Unicode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85680" y="4322880"/>
            <a:ext cx="27576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Arial Unicode MS"/>
              </a:rPr>
              <a:t>Verbale di accer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85680" y="3789360"/>
            <a:ext cx="27576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Arial Unicode MS"/>
              </a:rPr>
              <a:t>Segna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1"/>
          <p:cNvSpPr/>
          <p:nvPr/>
        </p:nvSpPr>
        <p:spPr>
          <a:xfrm>
            <a:off x="2413080" y="1459080"/>
            <a:ext cx="24480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d1600"/>
                </a:solidFill>
                <a:latin typeface="Arial Unicode MS"/>
              </a:rPr>
              <a:t>Profilo Dinamico Funzionale [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4548240" y="1193760"/>
            <a:ext cx="2448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d1600"/>
                </a:solidFill>
                <a:latin typeface="Arial Unicode MS"/>
              </a:rPr>
              <a:t>Piano Educativo Individualiz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6742080" y="4554360"/>
            <a:ext cx="2401920" cy="58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 Unicode MS"/>
              </a:rPr>
              <a:t>Verbali degli incontri di sinte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1144440" y="1303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La documentazione che accompagna  il  processo di inclu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406440" y="227160"/>
            <a:ext cx="533520" cy="395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5848200" y="617400"/>
            <a:ext cx="286560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d1600"/>
                </a:solidFill>
                <a:latin typeface="Arial Unicode MS"/>
              </a:rPr>
              <a:t>Programmazione educativa e didat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6702480" y="2608200"/>
            <a:ext cx="221436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46a32"/>
                </a:solidFill>
                <a:latin typeface="Arial Unicode MS"/>
              </a:rPr>
              <a:t>Registro delle a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5030640" y="5477040"/>
            <a:ext cx="298476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b050"/>
                </a:solidFill>
                <a:latin typeface="Arial Unicode MS"/>
              </a:rPr>
              <a:t>Fascicolo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214200" y="2674800"/>
          <a:ext cx="8742600" cy="3856320"/>
        </p:xfrm>
        <a:graphic>
          <a:graphicData uri="http://schemas.openxmlformats.org/drawingml/2006/table">
            <a:tbl>
              <a:tblPr/>
              <a:tblGrid>
                <a:gridCol w="1692360"/>
                <a:gridCol w="2579760"/>
                <a:gridCol w="1552680"/>
                <a:gridCol w="1398600"/>
                <a:gridCol w="1519200"/>
              </a:tblGrid>
              <a:tr h="49068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ENTO -SCU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ENTO -EQU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ENTO-FAMIG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ENTO EXTRA-SCU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IVITA’, METODOLOGIE E FATTORI AMBIENTALI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Creare gruppi di lavoro formati da studenti significativi per l’alunno e che possono agire da modello posi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I DI REALIZZ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IFICA: TEMPI E STRU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SULTATI ATTE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Rettangolo 6"/>
          <p:cNvSpPr/>
          <p:nvPr/>
        </p:nvSpPr>
        <p:spPr>
          <a:xfrm>
            <a:off x="198360" y="1392120"/>
            <a:ext cx="176868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gnitiva e dell’apprend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ttangolo 5"/>
          <p:cNvSpPr/>
          <p:nvPr/>
        </p:nvSpPr>
        <p:spPr>
          <a:xfrm>
            <a:off x="2017800" y="1384200"/>
            <a:ext cx="144936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ttangolo 4"/>
          <p:cNvSpPr/>
          <p:nvPr/>
        </p:nvSpPr>
        <p:spPr>
          <a:xfrm>
            <a:off x="3540240" y="1371600"/>
            <a:ext cx="122868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l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ttangolo 3"/>
          <p:cNvSpPr/>
          <p:nvPr/>
        </p:nvSpPr>
        <p:spPr>
          <a:xfrm>
            <a:off x="4843440" y="1370160"/>
            <a:ext cx="122868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torio-pras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ttangolo 2"/>
          <p:cNvSpPr/>
          <p:nvPr/>
        </p:nvSpPr>
        <p:spPr>
          <a:xfrm>
            <a:off x="6148440" y="1374840"/>
            <a:ext cx="1227240" cy="5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utonomia pers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ttangolo 1"/>
          <p:cNvSpPr/>
          <p:nvPr/>
        </p:nvSpPr>
        <p:spPr>
          <a:xfrm>
            <a:off x="7445520" y="1370160"/>
            <a:ext cx="1577880" cy="54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ree di vita princip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150840" y="74556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EDA DI PIAN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144360" y="1019520"/>
            <a:ext cx="779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909144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E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204840" y="1915920"/>
            <a:ext cx="881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909144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IETTIVI PRIORITARI DI SVILUPPO: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crescere la capacità di controllo del comportamento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onnettore 1 18"/>
          <p:cNvSpPr/>
          <p:nvPr/>
        </p:nvSpPr>
        <p:spPr>
          <a:xfrm flipV="1">
            <a:off x="3597120" y="1424160"/>
            <a:ext cx="1121040" cy="41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Connettore 1 20"/>
          <p:cNvSpPr/>
          <p:nvPr/>
        </p:nvSpPr>
        <p:spPr>
          <a:xfrm>
            <a:off x="3571920" y="1406520"/>
            <a:ext cx="115560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198360" y="190440"/>
            <a:ext cx="505080" cy="384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708120" y="165240"/>
            <a:ext cx="75261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70c0"/>
                </a:solidFill>
                <a:latin typeface="Arial"/>
              </a:rPr>
              <a:t>Applicazione dell’ICF – Piano Educativo Individualizzato/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2"/>
          <p:cNvSpPr/>
          <p:nvPr/>
        </p:nvSpPr>
        <p:spPr>
          <a:xfrm>
            <a:off x="912960" y="295200"/>
            <a:ext cx="6824520" cy="463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Il docente assegnato alle attività di sost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1276200" y="1424160"/>
            <a:ext cx="64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cente di sostegno è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“assegnato alla classe per le attività di sostegn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1203480" y="2575080"/>
            <a:ext cx="64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resenza nella scuola dell'insegnante assegnato alle attività di sostegno si concretizza attraverso la sua funzione d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ordinamento della rete delle attivi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reviste per l'effettivo raggiungimento dell'inclus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316080" y="1330200"/>
            <a:ext cx="620640" cy="930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301680" y="2651040"/>
            <a:ext cx="620640" cy="887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1217520" y="4076640"/>
            <a:ext cx="660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'insegnante per le attività di sostegn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non può essere utilizzato per svolgere altro tipo di funzioni se non quelle strettamente connesse al progetto di inclus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qualora tale diverso utilizzo riduca anche in minima parte l’efficacia di detto proget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2"/>
          <p:cNvSpPr/>
          <p:nvPr/>
        </p:nvSpPr>
        <p:spPr>
          <a:xfrm>
            <a:off x="316080" y="4226040"/>
            <a:ext cx="620640" cy="887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8"/>
          <p:cNvSpPr/>
          <p:nvPr/>
        </p:nvSpPr>
        <p:spPr>
          <a:xfrm>
            <a:off x="252360" y="289080"/>
            <a:ext cx="447840" cy="482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1122480" y="247680"/>
            <a:ext cx="6395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7c1302"/>
                </a:solidFill>
                <a:latin typeface="Arial"/>
              </a:rPr>
              <a:t>Valutazione degli alunni con disabilità (L. 104/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41360" y="1762200"/>
            <a:ext cx="7365960" cy="91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gli alunni in situazione di handicap psichico la valutazione, per il suo carattere formativo ed educativo e per l'azione di stimolo che esercita nei confronti dell'allievo,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deve comunque aver luog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3795120" y="6351840"/>
            <a:ext cx="514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o da: Direttiva Ministeriale n. 90 del 2001, art. 15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ttangolo 1"/>
          <p:cNvSpPr/>
          <p:nvPr/>
        </p:nvSpPr>
        <p:spPr>
          <a:xfrm>
            <a:off x="654120" y="2965320"/>
            <a:ext cx="79754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ora, al fine di assicurare il diritto allo studio ad alunni in situazione di handicap psichico e, eccezionalmente, fisico e sensoriale, il piano educativo individualizzato sia diversificato in funzione di obiettivi didattici e formativi non riconducibili ai programmi ministeriali, il Consiglio di classe, (…),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valuta i risultati dell'apprendimento, con l'attribuzione di vo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lativi unicamente allo svolgimento del citato piano educativo individualizzato e non ai programmi ministeriali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441360" y="379440"/>
            <a:ext cx="447480" cy="482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object 3"/>
          <p:cNvSpPr/>
          <p:nvPr/>
        </p:nvSpPr>
        <p:spPr>
          <a:xfrm>
            <a:off x="569880" y="1733400"/>
            <a:ext cx="2514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6160" indent="-136800">
              <a:lnSpc>
                <a:spcPct val="95000"/>
              </a:lnSpc>
              <a:buClr>
                <a:srgbClr val="d34817"/>
              </a:buClr>
              <a:buSzPct val="80000"/>
              <a:buFont typeface="Arial"/>
              <a:buChar char="•"/>
              <a:tabLst>
                <a:tab algn="l" pos="146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bject 4"/>
          <p:cNvSpPr/>
          <p:nvPr/>
        </p:nvSpPr>
        <p:spPr>
          <a:xfrm>
            <a:off x="3487680" y="1717560"/>
            <a:ext cx="45705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6160" indent="-136800">
              <a:lnSpc>
                <a:spcPts val="1525"/>
              </a:lnSpc>
              <a:buClr>
                <a:srgbClr val="d34817"/>
              </a:buClr>
              <a:buSzPct val="80000"/>
              <a:buFont typeface="Arial"/>
              <a:buChar char="•"/>
              <a:tabLst>
                <a:tab algn="l" pos="146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asellaDiTesto 4"/>
          <p:cNvSpPr/>
          <p:nvPr/>
        </p:nvSpPr>
        <p:spPr>
          <a:xfrm>
            <a:off x="800280" y="2114640"/>
            <a:ext cx="765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Rectangle 2"/>
          <p:cNvGrpSpPr/>
          <p:nvPr/>
        </p:nvGrpSpPr>
        <p:grpSpPr>
          <a:xfrm>
            <a:off x="633240" y="1316160"/>
            <a:ext cx="7882200" cy="3938400"/>
            <a:chOff x="633240" y="1316160"/>
            <a:chExt cx="7882200" cy="3938400"/>
          </a:xfrm>
        </p:grpSpPr>
        <p:pic>
          <p:nvPicPr>
            <p:cNvPr id="351" name="Rectangle 2" descr=""/>
            <p:cNvPicPr/>
            <p:nvPr/>
          </p:nvPicPr>
          <p:blipFill>
            <a:blip r:embed="rId1"/>
            <a:stretch/>
          </p:blipFill>
          <p:spPr>
            <a:xfrm>
              <a:off x="633240" y="1316160"/>
              <a:ext cx="7882200" cy="39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85800" y="1444680"/>
              <a:ext cx="7772400" cy="36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sp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it-IT" sz="2200" spc="-1" strike="noStrike">
                  <a:solidFill>
                    <a:srgbClr val="efb145"/>
                  </a:solidFill>
                  <a:latin typeface="Arial"/>
                </a:rPr>
                <a:t>La valutazione degli alun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it-IT" sz="2200" spc="-1" strike="noStrike">
                  <a:solidFill>
                    <a:srgbClr val="efb145"/>
                  </a:solidFill>
                  <a:latin typeface="Arial"/>
                </a:rPr>
                <a:t> </a:t>
              </a:r>
              <a:r>
                <a:rPr b="1" lang="it-IT" sz="2200" spc="-1" strike="noStrike">
                  <a:solidFill>
                    <a:srgbClr val="efb145"/>
                  </a:solidFill>
                  <a:latin typeface="Arial"/>
                </a:rPr>
                <a:t>con disabilità e con DS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it-IT" sz="2200" spc="-1" strike="noStrike">
                  <a:solidFill>
                    <a:srgbClr val="efb145"/>
                  </a:solidFill>
                  <a:latin typeface="Arial"/>
                </a:rPr>
                <a:t> </a:t>
              </a:r>
              <a:r>
                <a:rPr b="1" lang="it-IT" sz="2200" spc="-1" strike="noStrike">
                  <a:solidFill>
                    <a:srgbClr val="efb145"/>
                  </a:solidFill>
                  <a:latin typeface="Arial"/>
                </a:rPr>
                <a:t>nel Decreto Legislativ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it-IT" sz="2200" spc="-1" strike="noStrike">
                  <a:solidFill>
                    <a:srgbClr val="efb145"/>
                  </a:solidFill>
                  <a:latin typeface="Arial"/>
                </a:rPr>
                <a:t> </a:t>
              </a:r>
              <a:r>
                <a:rPr b="1" lang="it-IT" sz="2200" spc="-1" strike="noStrike">
                  <a:solidFill>
                    <a:srgbClr val="efb145"/>
                  </a:solidFill>
                  <a:latin typeface="Arial"/>
                </a:rPr>
                <a:t>n. 62 del 13 aprile 2017, nel DM 741 del 3 ottobre 2017 e nella nota MIUR 1865 del 10 ottobre 2017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it-IT" sz="1800" spc="-1" strike="noStrike">
                  <a:solidFill>
                    <a:srgbClr val="00b050"/>
                  </a:solidFill>
                  <a:latin typeface="Arial"/>
                </a:rPr>
                <a:t>a cura del Gruppo di Lavoro Referenti Inclus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it-IT" sz="1800" spc="-1" strike="noStrike">
                  <a:solidFill>
                    <a:srgbClr val="00b050"/>
                  </a:solidFill>
                  <a:latin typeface="Arial"/>
                </a:rPr>
                <a:t>USR per il Ven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3" name="Picture 6" descr=""/>
          <p:cNvPicPr/>
          <p:nvPr/>
        </p:nvPicPr>
        <p:blipFill>
          <a:blip r:embed="rId2"/>
          <a:stretch/>
        </p:blipFill>
        <p:spPr>
          <a:xfrm>
            <a:off x="8335800" y="368280"/>
            <a:ext cx="623880" cy="628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CasellaDiTesto 2"/>
          <p:cNvSpPr/>
          <p:nvPr/>
        </p:nvSpPr>
        <p:spPr>
          <a:xfrm>
            <a:off x="233280" y="3762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fb145"/>
                </a:solidFill>
                <a:latin typeface="Arial"/>
              </a:rPr>
              <a:t>Valutazione alunni con disabilità </a:t>
            </a:r>
            <a:r>
              <a:rPr b="1" lang="it-IT" sz="1500" spc="-1" strike="noStrike">
                <a:solidFill>
                  <a:srgbClr val="efb145"/>
                </a:solidFill>
                <a:latin typeface="Arial"/>
              </a:rPr>
              <a:t>(primo cicl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33280" y="1171440"/>
          <a:ext cx="8166240" cy="5048280"/>
        </p:xfrm>
        <a:graphic>
          <a:graphicData uri="http://schemas.openxmlformats.org/drawingml/2006/table">
            <a:tbl>
              <a:tblPr/>
              <a:tblGrid>
                <a:gridCol w="8166240"/>
              </a:tblGrid>
              <a:tr h="5048280">
                <a:tc>
                  <a:txBody>
                    <a:bodyPr lIns="51480" rIns="5148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 valutazione è riferita al comportamento, alle discipline e alle attività svolte sulla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base del piano educativo individualizzato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 dei documenti previsti dall’art. 12, comma 5, della L. 104/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 valutazione persegue gli obiettivi di cui all’art. 314, comma 2, del D. Lgs. vo 297/94 relativamente al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diritto all’istruzione e all’educazione degli alunni con disabil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ff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l’ammissione alla classe successiva e all’esame di Stato conclusivo del primo ciclo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 istruzione avviene tenendo a riferimento il piano educativo individualizz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li alunni con disabilità partecipano alle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prove nazionali INVALSI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 possibilità di adottare, a cura del team docente, adeguate misure compensative o dispensative, nonché di predisporre specifici adattamenti della prova ovvero l’esonero dalla stes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li alunni con disabilità sostengono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le prove di esame al termine del primo ciclo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 istruzione con l’uso degli ausili e dei sussidi didattici utilizzati durante l’anno scolastico per l’attuazione del PE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56" name="Picture 6" descr=""/>
          <p:cNvPicPr/>
          <p:nvPr/>
        </p:nvPicPr>
        <p:blipFill>
          <a:blip r:embed="rId1"/>
          <a:stretch/>
        </p:blipFill>
        <p:spPr>
          <a:xfrm>
            <a:off x="8224920" y="306360"/>
            <a:ext cx="622080" cy="65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CasellaDiTesto 2"/>
          <p:cNvSpPr/>
          <p:nvPr/>
        </p:nvSpPr>
        <p:spPr>
          <a:xfrm>
            <a:off x="330120" y="5983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fb145"/>
                </a:solidFill>
                <a:latin typeface="Arial"/>
              </a:rPr>
              <a:t>Valutazione alunni con disabilità </a:t>
            </a:r>
            <a:r>
              <a:rPr b="1" lang="it-IT" sz="1500" spc="-1" strike="noStrike">
                <a:solidFill>
                  <a:srgbClr val="efb145"/>
                </a:solidFill>
                <a:latin typeface="Arial"/>
              </a:rPr>
              <a:t>(primo cicl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2120" y="1444680"/>
          <a:ext cx="8344080" cy="4416480"/>
        </p:xfrm>
        <a:graphic>
          <a:graphicData uri="http://schemas.openxmlformats.org/drawingml/2006/table">
            <a:tbl>
              <a:tblPr/>
              <a:tblGrid>
                <a:gridCol w="8344080"/>
              </a:tblGrid>
              <a:tr h="4416480">
                <a:tc>
                  <a:txBody>
                    <a:bodyPr lIns="51480" rIns="5148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lla base del PEI e delle attività in esso previste, la commissione potrà predisporre, se necessario,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prove differenziate idonee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a valutare il progresso dell’alunno in rapporto alle sue potenzialità e ai suoi livelli di apprendimento. Le prove differenziate hanno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valore equivalente a quelle ordinarie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i fini del superamento dell’esame e del conseguimento del diploma fi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’esito finale viene determinato con le medesime modalità previste per gli altri stud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li alunni con disabilità che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non si presentano all’esame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iene rilasciato un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attestato di credito formativo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he è comunque titolo per l’iscrizione e la frequenza della scuola secondaria di secondo grado ai soli fini del riconoscimento di ulteriori crediti formativ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8255160" y="351000"/>
            <a:ext cx="622080" cy="65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ttangolo 2"/>
          <p:cNvSpPr/>
          <p:nvPr/>
        </p:nvSpPr>
        <p:spPr>
          <a:xfrm>
            <a:off x="433440" y="1228680"/>
            <a:ext cx="7650000" cy="4208760"/>
          </a:xfrm>
          <a:prstGeom prst="rect">
            <a:avLst/>
          </a:prstGeom>
          <a:solidFill>
            <a:srgbClr val="ffd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 prat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per gl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unni con disabili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ve INVALS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ossono esse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dattate agli alunni con disabili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, in casi eccezionali, il consiglio di classe può prevederne anch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'esone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mane fermo che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l quale si svolgono gli esami deve essere formulato sulla base del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ffettive capacità dell'alun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prove possono essere differenzia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perché tarate sugli obiettivi del PEI)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no equivalenti ai fini del conseguimento del diplom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 ribadita la novità introdotta dal D.Lgs. n° 62/17 secondo la qua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 un alunno con disabilità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mmesso agli esami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n si presen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eve l'attestato di credito formativ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n può iscriversi nuovamente alla terza clas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la scuola secondaria di primo g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1"/>
          <a:stretch/>
        </p:blipFill>
        <p:spPr>
          <a:xfrm>
            <a:off x="8170920" y="334800"/>
            <a:ext cx="622080" cy="6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object 3"/>
          <p:cNvSpPr/>
          <p:nvPr/>
        </p:nvSpPr>
        <p:spPr>
          <a:xfrm>
            <a:off x="569880" y="1733400"/>
            <a:ext cx="2514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6160" indent="-136800">
              <a:lnSpc>
                <a:spcPct val="95000"/>
              </a:lnSpc>
              <a:buClr>
                <a:srgbClr val="d34817"/>
              </a:buClr>
              <a:buSzPct val="80000"/>
              <a:buFont typeface="Arial"/>
              <a:buChar char="•"/>
              <a:tabLst>
                <a:tab algn="l" pos="146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bject 4"/>
          <p:cNvSpPr/>
          <p:nvPr/>
        </p:nvSpPr>
        <p:spPr>
          <a:xfrm>
            <a:off x="3487680" y="1717560"/>
            <a:ext cx="45705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6160" indent="-136800">
              <a:lnSpc>
                <a:spcPts val="1525"/>
              </a:lnSpc>
              <a:buClr>
                <a:srgbClr val="d34817"/>
              </a:buClr>
              <a:buSzPct val="80000"/>
              <a:buFont typeface="Arial"/>
              <a:buChar char="•"/>
              <a:tabLst>
                <a:tab algn="l" pos="146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asellaDiTesto 4"/>
          <p:cNvSpPr/>
          <p:nvPr/>
        </p:nvSpPr>
        <p:spPr>
          <a:xfrm>
            <a:off x="800280" y="2114640"/>
            <a:ext cx="765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Rectangle 2"/>
          <p:cNvGrpSpPr/>
          <p:nvPr/>
        </p:nvGrpSpPr>
        <p:grpSpPr>
          <a:xfrm>
            <a:off x="480960" y="1852560"/>
            <a:ext cx="8278920" cy="3030480"/>
            <a:chOff x="480960" y="1852560"/>
            <a:chExt cx="8278920" cy="3030480"/>
          </a:xfrm>
        </p:grpSpPr>
        <p:pic>
          <p:nvPicPr>
            <p:cNvPr id="366" name="Rectangle 2" descr=""/>
            <p:cNvPicPr/>
            <p:nvPr/>
          </p:nvPicPr>
          <p:blipFill>
            <a:blip r:embed="rId1"/>
            <a:stretch/>
          </p:blipFill>
          <p:spPr>
            <a:xfrm>
              <a:off x="480960" y="1852560"/>
              <a:ext cx="8278920" cy="30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85800" y="2015640"/>
              <a:ext cx="7772400" cy="25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sp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it-IT" sz="2700" spc="-1" strike="noStrike">
                  <a:solidFill>
                    <a:srgbClr val="efb145"/>
                  </a:solidFill>
                  <a:latin typeface="Arial"/>
                </a:rPr>
                <a:t>La certificazione delle competenze degli alunni con disabilità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it-IT" sz="2700" spc="-1" strike="noStrike">
                  <a:solidFill>
                    <a:srgbClr val="efb145"/>
                  </a:solidFill>
                  <a:latin typeface="Arial"/>
                </a:rPr>
                <a:t> </a:t>
              </a:r>
              <a:r>
                <a:rPr b="1" lang="it-IT" sz="2700" spc="-1" strike="noStrike">
                  <a:solidFill>
                    <a:srgbClr val="efb145"/>
                  </a:solidFill>
                  <a:latin typeface="Arial"/>
                </a:rPr>
                <a:t>nel Decreto Legislativo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it-IT" sz="2700" spc="-1" strike="noStrike">
                  <a:solidFill>
                    <a:srgbClr val="efb145"/>
                  </a:solidFill>
                  <a:latin typeface="Arial"/>
                </a:rPr>
                <a:t> </a:t>
              </a:r>
              <a:r>
                <a:rPr b="1" lang="it-IT" sz="2700" spc="-1" strike="noStrike">
                  <a:solidFill>
                    <a:srgbClr val="efb145"/>
                  </a:solidFill>
                  <a:latin typeface="Arial"/>
                </a:rPr>
                <a:t>n. 62 del 13 aprile 2017, nel DM 742 del 3 ottobre 2017 e nella nota MIUR 1865 del 10 ottobre 2017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8" name="Picture 6" descr=""/>
          <p:cNvPicPr/>
          <p:nvPr/>
        </p:nvPicPr>
        <p:blipFill>
          <a:blip r:embed="rId2"/>
          <a:stretch/>
        </p:blipFill>
        <p:spPr>
          <a:xfrm>
            <a:off x="7772400" y="1257480"/>
            <a:ext cx="622440" cy="66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ttangolo 1"/>
          <p:cNvSpPr/>
          <p:nvPr/>
        </p:nvSpPr>
        <p:spPr>
          <a:xfrm>
            <a:off x="704880" y="1125360"/>
            <a:ext cx="782964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MIUR con il DM n° 742/17 ha pubblicato i modelli di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ertificazione delle competenz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che devono essere ora obbligatoriamente rilasciati a tutti gli alunni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 termine della scuola primaria e al termine della scuola secondaria di secondo grad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ome espressamente previsto dal D.Lgs. n° 62/17, art. 9, attuativo della riforma sulla "buona scuol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M n° 742/17 prevede la specifica importante ch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er le alunne e gli alunni con disabilità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, certificata ai sensi della legge n° 104/1992, il modello nazionale può essere accompagnato, ove necessario, da una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nota esplicativa che rapporti il significato degli enunciati relativi alle competenze del profilo dello studente agli obiettivi specifici del piano educativo individualizzato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allegati al decreto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odelli di Certific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A per la scuola primaria e B la scuola secondaria di primo g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6" descr=""/>
          <p:cNvPicPr/>
          <p:nvPr/>
        </p:nvPicPr>
        <p:blipFill>
          <a:blip r:embed="rId1"/>
          <a:stretch/>
        </p:blipFill>
        <p:spPr>
          <a:xfrm>
            <a:off x="7829640" y="5029200"/>
            <a:ext cx="622080" cy="66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"/>
          <p:cNvGrpSpPr/>
          <p:nvPr/>
        </p:nvGrpSpPr>
        <p:grpSpPr>
          <a:xfrm>
            <a:off x="1008000" y="2075040"/>
            <a:ext cx="5433840" cy="3581280"/>
            <a:chOff x="1008000" y="2075040"/>
            <a:chExt cx="5433840" cy="3581280"/>
          </a:xfrm>
        </p:grpSpPr>
        <p:grpSp>
          <p:nvGrpSpPr>
            <p:cNvPr id="140" name="Group 5"/>
            <p:cNvGrpSpPr/>
            <p:nvPr/>
          </p:nvGrpSpPr>
          <p:grpSpPr>
            <a:xfrm>
              <a:off x="1008000" y="2075040"/>
              <a:ext cx="4267080" cy="3581280"/>
              <a:chOff x="1008000" y="2075040"/>
              <a:chExt cx="4267080" cy="358128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1180800" y="2075040"/>
                <a:ext cx="4079880" cy="279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7"/>
              <p:cNvSpPr/>
              <p:nvPr/>
            </p:nvSpPr>
            <p:spPr>
              <a:xfrm>
                <a:off x="1008000" y="3257640"/>
                <a:ext cx="1041120" cy="56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0000"/>
                    </a:solidFill>
                    <a:latin typeface="Arial Unicode MS"/>
                  </a:rPr>
                  <a:t>Analis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8"/>
              <p:cNvSpPr/>
              <p:nvPr/>
            </p:nvSpPr>
            <p:spPr>
              <a:xfrm>
                <a:off x="2277720" y="2168640"/>
                <a:ext cx="1930680" cy="52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cc9900"/>
                    </a:solidFill>
                    <a:latin typeface="Arial Unicode MS"/>
                  </a:rPr>
                  <a:t>Progettazi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9"/>
              <p:cNvSpPr/>
              <p:nvPr/>
            </p:nvSpPr>
            <p:spPr>
              <a:xfrm>
                <a:off x="2631960" y="2738520"/>
                <a:ext cx="1224000" cy="28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ff00"/>
                    </a:solidFill>
                    <a:latin typeface="Arial Unicode MS"/>
                  </a:rPr>
                  <a:t>obiettiv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0"/>
              <p:cNvSpPr/>
              <p:nvPr/>
            </p:nvSpPr>
            <p:spPr>
              <a:xfrm>
                <a:off x="2631960" y="3068640"/>
                <a:ext cx="1224000" cy="285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ff00"/>
                    </a:solidFill>
                    <a:latin typeface="Arial Unicode MS"/>
                  </a:rPr>
                  <a:t>azion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1"/>
              <p:cNvSpPr/>
              <p:nvPr/>
            </p:nvSpPr>
            <p:spPr>
              <a:xfrm>
                <a:off x="2631960" y="3400560"/>
                <a:ext cx="1224000" cy="28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ff00"/>
                    </a:solidFill>
                    <a:latin typeface="Arial Unicode MS"/>
                  </a:rPr>
                  <a:t>verific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2"/>
              <p:cNvSpPr/>
              <p:nvPr/>
            </p:nvSpPr>
            <p:spPr>
              <a:xfrm>
                <a:off x="2226960" y="2151360"/>
                <a:ext cx="1974960" cy="1611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3"/>
              <p:cNvSpPr/>
              <p:nvPr/>
            </p:nvSpPr>
            <p:spPr>
              <a:xfrm>
                <a:off x="1922400" y="5199120"/>
                <a:ext cx="26193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b050"/>
                    </a:solidFill>
                    <a:latin typeface="Arial Unicode MS"/>
                  </a:rPr>
                  <a:t>Documentazi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4"/>
              <p:cNvSpPr/>
              <p:nvPr/>
            </p:nvSpPr>
            <p:spPr>
              <a:xfrm>
                <a:off x="2151000" y="4159440"/>
                <a:ext cx="2108160" cy="568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00"/>
                    </a:solidFill>
                    <a:latin typeface="Arial Unicode MS"/>
                  </a:rPr>
                  <a:t>Miglioramen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0" name="AutoShape 15"/>
              <p:cNvCxnSpPr>
                <a:stCxn id="151" idx="1"/>
                <a:endCxn id="149" idx="3"/>
              </p:cNvCxnSpPr>
              <p:nvPr/>
            </p:nvCxnSpPr>
            <p:spPr>
              <a:xfrm rot="10800000">
                <a:off x="4259160" y="4442760"/>
                <a:ext cx="559080" cy="15120"/>
              </a:xfrm>
              <a:prstGeom prst="curvedConnector5">
                <a:avLst>
                  <a:gd name="adj1" fmla="val 50000"/>
                  <a:gd name="adj2" fmla="val 48780"/>
                  <a:gd name="adj3" fmla="val 50000"/>
                </a:avLst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2" name="AutoShape 16"/>
              <p:cNvCxnSpPr>
                <a:stCxn id="149" idx="0"/>
                <a:endCxn id="147" idx="2"/>
              </p:cNvCxnSpPr>
              <p:nvPr/>
            </p:nvCxnSpPr>
            <p:spPr>
              <a:xfrm flipH="1" flipV="1" rot="5400000">
                <a:off x="3011040" y="3956040"/>
                <a:ext cx="397440" cy="10080"/>
              </a:xfrm>
              <a:prstGeom prst="curvedConnector5">
                <a:avLst>
                  <a:gd name="adj1" fmla="val 49954"/>
                  <a:gd name="adj2" fmla="val 48148"/>
                  <a:gd name="adj3" fmla="val 49954"/>
                </a:avLst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3" name="AutoShape 17"/>
              <p:cNvCxnSpPr>
                <a:stCxn id="142" idx="0"/>
                <a:endCxn id="154" idx="1"/>
              </p:cNvCxnSpPr>
              <p:nvPr/>
            </p:nvCxnSpPr>
            <p:spPr>
              <a:xfrm flipH="1" flipV="1" rot="5400000">
                <a:off x="1533960" y="2564280"/>
                <a:ext cx="687960" cy="6991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4" name="Rectangle 18"/>
              <p:cNvSpPr/>
              <p:nvPr/>
            </p:nvSpPr>
            <p:spPr>
              <a:xfrm>
                <a:off x="2226960" y="2379960"/>
                <a:ext cx="5335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9"/>
              <p:cNvSpPr/>
              <p:nvPr/>
            </p:nvSpPr>
            <p:spPr>
              <a:xfrm>
                <a:off x="3674880" y="2379960"/>
                <a:ext cx="5335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20"/>
              <p:cNvSpPr/>
              <p:nvPr/>
            </p:nvSpPr>
            <p:spPr>
              <a:xfrm>
                <a:off x="4741560" y="3218040"/>
                <a:ext cx="5335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7" name="AutoShape 21"/>
              <p:cNvCxnSpPr>
                <a:stCxn id="155" idx="3"/>
                <a:endCxn id="156" idx="0"/>
              </p:cNvCxnSpPr>
              <p:nvPr/>
            </p:nvCxnSpPr>
            <p:spPr>
              <a:xfrm>
                <a:off x="4208400" y="2570040"/>
                <a:ext cx="800640" cy="64836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8" name="AutoShape 22"/>
              <p:cNvCxnSpPr>
                <a:stCxn id="148" idx="0"/>
                <a:endCxn id="149" idx="2"/>
              </p:cNvCxnSpPr>
              <p:nvPr/>
            </p:nvCxnSpPr>
            <p:spPr>
              <a:xfrm flipH="1" flipV="1">
                <a:off x="3204360" y="4727160"/>
                <a:ext cx="27720" cy="471960"/>
              </a:xfrm>
              <a:prstGeom prst="straightConnector1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59" name="Rectangle 23"/>
            <p:cNvSpPr/>
            <p:nvPr/>
          </p:nvSpPr>
          <p:spPr>
            <a:xfrm>
              <a:off x="4512960" y="3257640"/>
              <a:ext cx="1905120" cy="56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46a32"/>
                  </a:solidFill>
                  <a:latin typeface="Arial Unicode MS"/>
                </a:rPr>
                <a:t>Realizzazi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4"/>
            <p:cNvSpPr/>
            <p:nvPr/>
          </p:nvSpPr>
          <p:spPr>
            <a:xfrm>
              <a:off x="4817880" y="4172040"/>
              <a:ext cx="1623960" cy="56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ff"/>
                  </a:solidFill>
                  <a:latin typeface="Arial Unicode MS"/>
                </a:rPr>
                <a:t>Valutazi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31"/>
          <p:cNvSpPr/>
          <p:nvPr/>
        </p:nvSpPr>
        <p:spPr>
          <a:xfrm>
            <a:off x="588960" y="835200"/>
            <a:ext cx="24480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d1600"/>
                </a:solidFill>
                <a:latin typeface="Arial Unicode MS"/>
              </a:rPr>
              <a:t>Profilo Dinamico Fun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2"/>
          <p:cNvSpPr/>
          <p:nvPr/>
        </p:nvSpPr>
        <p:spPr>
          <a:xfrm>
            <a:off x="1536840" y="1494000"/>
            <a:ext cx="244764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d1600"/>
                </a:solidFill>
                <a:latin typeface="Arial Unicode MS"/>
              </a:rPr>
              <a:t>Piano Educativo Individualiz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3"/>
          <p:cNvSpPr/>
          <p:nvPr/>
        </p:nvSpPr>
        <p:spPr>
          <a:xfrm>
            <a:off x="5508720" y="4654440"/>
            <a:ext cx="237636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 Unicode MS"/>
              </a:rPr>
              <a:t>Verbali degli incont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4"/>
          <p:cNvSpPr/>
          <p:nvPr/>
        </p:nvSpPr>
        <p:spPr>
          <a:xfrm>
            <a:off x="1144440" y="128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La documentazione da produ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290520" y="133200"/>
            <a:ext cx="533520" cy="395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3"/>
          <p:cNvSpPr/>
          <p:nvPr/>
        </p:nvSpPr>
        <p:spPr>
          <a:xfrm>
            <a:off x="3562200" y="985680"/>
            <a:ext cx="2511720" cy="6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d1600"/>
                </a:solidFill>
                <a:latin typeface="Arial Unicode MS"/>
              </a:rPr>
              <a:t>Programmazione educativa e didat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3"/>
          <p:cNvSpPr/>
          <p:nvPr/>
        </p:nvSpPr>
        <p:spPr>
          <a:xfrm>
            <a:off x="5572080" y="2760840"/>
            <a:ext cx="250200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46a32"/>
                </a:solidFill>
                <a:latin typeface="Arial Unicode MS"/>
              </a:rPr>
              <a:t>Registro delle a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4000680" y="5592600"/>
            <a:ext cx="298440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b050"/>
                </a:solidFill>
                <a:latin typeface="Arial Unicode MS"/>
              </a:rPr>
              <a:t>Fascicolo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umetto 1 1"/>
          <p:cNvSpPr/>
          <p:nvPr/>
        </p:nvSpPr>
        <p:spPr>
          <a:xfrm>
            <a:off x="5999040" y="312840"/>
            <a:ext cx="1886040" cy="368280"/>
          </a:xfrm>
          <a:prstGeom prst="wedgeRectCallout">
            <a:avLst>
              <a:gd name="adj1" fmla="val -90055"/>
              <a:gd name="adj2" fmla="val 97949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ne nov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umetto 1 35"/>
          <p:cNvSpPr/>
          <p:nvPr/>
        </p:nvSpPr>
        <p:spPr>
          <a:xfrm>
            <a:off x="6600960" y="1631880"/>
            <a:ext cx="1885680" cy="368280"/>
          </a:xfrm>
          <a:prstGeom prst="wedgeRectCallout">
            <a:avLst>
              <a:gd name="adj1" fmla="val -76986"/>
              <a:gd name="adj2" fmla="val 278175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ug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umetto 1 36"/>
          <p:cNvSpPr/>
          <p:nvPr/>
        </p:nvSpPr>
        <p:spPr>
          <a:xfrm>
            <a:off x="6985080" y="3611520"/>
            <a:ext cx="1887480" cy="368280"/>
          </a:xfrm>
          <a:prstGeom prst="wedgeRectCallout">
            <a:avLst>
              <a:gd name="adj1" fmla="val -76986"/>
              <a:gd name="adj2" fmla="val 278175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3"/>
          <p:cNvSpPr/>
          <p:nvPr/>
        </p:nvSpPr>
        <p:spPr>
          <a:xfrm>
            <a:off x="290520" y="6256440"/>
            <a:ext cx="8545680" cy="5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a richiedere e consegnare alla sig.ra Nicoletta della segre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349200" y="1003320"/>
            <a:ext cx="7858080" cy="55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2520" indent="-64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opportuno assumere  un approccio decisamente educativo 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64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64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questo riguardo è rilevante l’apporto del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64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modello diagnostico ICF dell’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64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considera la persona nella sua totalità, in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64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prospettiva bio-psico-soc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64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Fondandosi sul profilo di funzionamento e sull’analisi del contesto, il modello IC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64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64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ente di individuare i Bisogni Educativi Speciali (BES) dell’alunno prescindendo da preclusive tipizza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64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[Tratto da: Direttiva Ministeriale 27 dicembre 2012 – p.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1033560" y="285840"/>
            <a:ext cx="6899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Il linguaggio usato nella documentazione - I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3"/>
          <p:cNvSpPr/>
          <p:nvPr/>
        </p:nvSpPr>
        <p:spPr>
          <a:xfrm>
            <a:off x="349200" y="289080"/>
            <a:ext cx="533520" cy="393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71"/>
          <p:cNvGrpSpPr/>
          <p:nvPr/>
        </p:nvGrpSpPr>
        <p:grpSpPr>
          <a:xfrm>
            <a:off x="339840" y="2914560"/>
            <a:ext cx="8332200" cy="2895840"/>
            <a:chOff x="339840" y="2914560"/>
            <a:chExt cx="8332200" cy="2895840"/>
          </a:xfrm>
        </p:grpSpPr>
        <p:sp>
          <p:nvSpPr>
            <p:cNvPr id="176" name="Rectangle 72"/>
            <p:cNvSpPr/>
            <p:nvPr/>
          </p:nvSpPr>
          <p:spPr>
            <a:xfrm>
              <a:off x="5389560" y="2914560"/>
              <a:ext cx="3282480" cy="28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3"/>
            <p:cNvSpPr/>
            <p:nvPr/>
          </p:nvSpPr>
          <p:spPr>
            <a:xfrm>
              <a:off x="339840" y="2914560"/>
              <a:ext cx="3113640" cy="28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4"/>
            <p:cNvSpPr/>
            <p:nvPr/>
          </p:nvSpPr>
          <p:spPr>
            <a:xfrm>
              <a:off x="3706200" y="4210200"/>
              <a:ext cx="1432440" cy="380880"/>
            </a:xfrm>
            <a:prstGeom prst="leftRightArrow">
              <a:avLst>
                <a:gd name="adj1" fmla="val 50000"/>
                <a:gd name="adj2" fmla="val 74869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75"/>
          <p:cNvSpPr/>
          <p:nvPr/>
        </p:nvSpPr>
        <p:spPr>
          <a:xfrm>
            <a:off x="495360" y="1376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 Unicode MS"/>
              </a:rPr>
              <a:t>Classificazioni Internazion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 Unicode MS"/>
              </a:rPr>
              <a:t>sviluppate dall’Organizzazione Mondiale della Sanità (O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6"/>
          <p:cNvSpPr/>
          <p:nvPr/>
        </p:nvSpPr>
        <p:spPr>
          <a:xfrm>
            <a:off x="690480" y="3067200"/>
            <a:ext cx="2568600" cy="863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9900"/>
                </a:solidFill>
                <a:latin typeface="Arial Unicode MS"/>
              </a:rPr>
              <a:t>ICD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7"/>
          <p:cNvSpPr/>
          <p:nvPr/>
        </p:nvSpPr>
        <p:spPr>
          <a:xfrm>
            <a:off x="5627520" y="3067200"/>
            <a:ext cx="2867040" cy="863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9900"/>
                </a:solidFill>
                <a:latin typeface="Arial Unicode MS"/>
              </a:rPr>
              <a:t>I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8"/>
          <p:cNvSpPr/>
          <p:nvPr/>
        </p:nvSpPr>
        <p:spPr>
          <a:xfrm>
            <a:off x="687240" y="4438800"/>
            <a:ext cx="2571840" cy="12189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9900"/>
                </a:solidFill>
                <a:latin typeface="Arial Unicode MS"/>
              </a:rPr>
              <a:t>malattie</a:t>
            </a:r>
            <a:br>
              <a:rPr sz="2800"/>
            </a:br>
            <a:r>
              <a:rPr b="1" lang="it-IT" sz="2800" spc="-1" strike="noStrike">
                <a:solidFill>
                  <a:srgbClr val="cc9900"/>
                </a:solidFill>
                <a:latin typeface="Arial Unicode MS"/>
              </a:rPr>
              <a:t>disturbi</a:t>
            </a:r>
            <a:br>
              <a:rPr sz="2800"/>
            </a:br>
            <a:r>
              <a:rPr b="1" lang="it-IT" sz="2800" spc="-1" strike="noStrike">
                <a:solidFill>
                  <a:srgbClr val="cc9900"/>
                </a:solidFill>
                <a:latin typeface="Arial Unicode MS"/>
              </a:rPr>
              <a:t>le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9"/>
          <p:cNvSpPr/>
          <p:nvPr/>
        </p:nvSpPr>
        <p:spPr>
          <a:xfrm>
            <a:off x="5627520" y="4438800"/>
            <a:ext cx="2867040" cy="12189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9900"/>
                </a:solidFill>
                <a:latin typeface="Arial Unicode MS"/>
              </a:rPr>
              <a:t>funzionamento</a:t>
            </a:r>
            <a:br>
              <a:rPr sz="2800"/>
            </a:br>
            <a:r>
              <a:rPr b="1" lang="it-IT" sz="2800" spc="-1" strike="noStrike">
                <a:solidFill>
                  <a:srgbClr val="cc9900"/>
                </a:solidFill>
                <a:latin typeface="Arial Unicode MS"/>
              </a:rPr>
              <a:t>disabilit</a:t>
            </a:r>
            <a:r>
              <a:rPr b="1" lang="it-IT" sz="2800" spc="-1" strike="noStrike">
                <a:solidFill>
                  <a:srgbClr val="cc9900"/>
                </a:solidFill>
                <a:latin typeface="Arial"/>
              </a:rPr>
              <a:t>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07880" y="379440"/>
            <a:ext cx="444600" cy="446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033560" y="420840"/>
            <a:ext cx="6899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Il linguaggio usato nella documentazione- I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Text Box 4"/>
          <p:cNvGrpSpPr/>
          <p:nvPr/>
        </p:nvGrpSpPr>
        <p:grpSpPr>
          <a:xfrm>
            <a:off x="1219320" y="2341440"/>
            <a:ext cx="3200400" cy="1144800"/>
            <a:chOff x="1219320" y="2341440"/>
            <a:chExt cx="3200400" cy="1144800"/>
          </a:xfrm>
        </p:grpSpPr>
        <p:pic>
          <p:nvPicPr>
            <p:cNvPr id="187" name="Text Box 4" descr=""/>
            <p:cNvPicPr/>
            <p:nvPr/>
          </p:nvPicPr>
          <p:blipFill>
            <a:blip r:embed="rId1"/>
            <a:stretch/>
          </p:blipFill>
          <p:spPr>
            <a:xfrm>
              <a:off x="1219320" y="2341440"/>
              <a:ext cx="320040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222200" y="2344680"/>
              <a:ext cx="31147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Part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Funzionamento e Disabilit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Text Box 5"/>
          <p:cNvGrpSpPr/>
          <p:nvPr/>
        </p:nvGrpSpPr>
        <p:grpSpPr>
          <a:xfrm>
            <a:off x="5956200" y="2335320"/>
            <a:ext cx="2041560" cy="1146240"/>
            <a:chOff x="5956200" y="2335320"/>
            <a:chExt cx="2041560" cy="1146240"/>
          </a:xfrm>
        </p:grpSpPr>
        <p:pic>
          <p:nvPicPr>
            <p:cNvPr id="190" name="Text Box 5" descr=""/>
            <p:cNvPicPr/>
            <p:nvPr/>
          </p:nvPicPr>
          <p:blipFill>
            <a:blip r:embed="rId2"/>
            <a:stretch/>
          </p:blipFill>
          <p:spPr>
            <a:xfrm>
              <a:off x="5956200" y="2335320"/>
              <a:ext cx="20415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959440" y="2340000"/>
              <a:ext cx="1954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Part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Fattori Contestu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Text Box 6"/>
          <p:cNvGrpSpPr/>
          <p:nvPr/>
        </p:nvGrpSpPr>
        <p:grpSpPr>
          <a:xfrm>
            <a:off x="3402000" y="4230720"/>
            <a:ext cx="1987560" cy="871560"/>
            <a:chOff x="3402000" y="4230720"/>
            <a:chExt cx="1987560" cy="871560"/>
          </a:xfrm>
        </p:grpSpPr>
        <p:pic>
          <p:nvPicPr>
            <p:cNvPr id="193" name="Text Box 6" descr=""/>
            <p:cNvPicPr/>
            <p:nvPr/>
          </p:nvPicPr>
          <p:blipFill>
            <a:blip r:embed="rId3"/>
            <a:stretch/>
          </p:blipFill>
          <p:spPr>
            <a:xfrm>
              <a:off x="3402000" y="4230720"/>
              <a:ext cx="1987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408480" y="4235400"/>
              <a:ext cx="18968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Attività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Partecip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Text Box 7"/>
          <p:cNvGrpSpPr/>
          <p:nvPr/>
        </p:nvGrpSpPr>
        <p:grpSpPr>
          <a:xfrm>
            <a:off x="1573200" y="4206960"/>
            <a:ext cx="1451160" cy="877680"/>
            <a:chOff x="1573200" y="4206960"/>
            <a:chExt cx="1451160" cy="877680"/>
          </a:xfrm>
        </p:grpSpPr>
        <p:pic>
          <p:nvPicPr>
            <p:cNvPr id="196" name="Text Box 7" descr=""/>
            <p:cNvPicPr/>
            <p:nvPr/>
          </p:nvPicPr>
          <p:blipFill>
            <a:blip r:embed="rId4"/>
            <a:stretch/>
          </p:blipFill>
          <p:spPr>
            <a:xfrm>
              <a:off x="1573200" y="4206960"/>
              <a:ext cx="145116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579680" y="4214880"/>
              <a:ext cx="1358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Strut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corpo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Text Box 8"/>
          <p:cNvGrpSpPr/>
          <p:nvPr/>
        </p:nvGrpSpPr>
        <p:grpSpPr>
          <a:xfrm>
            <a:off x="212760" y="4211640"/>
            <a:ext cx="1311120" cy="878040"/>
            <a:chOff x="212760" y="4211640"/>
            <a:chExt cx="1311120" cy="878040"/>
          </a:xfrm>
        </p:grpSpPr>
        <p:pic>
          <p:nvPicPr>
            <p:cNvPr id="199" name="Text Box 8" descr=""/>
            <p:cNvPicPr/>
            <p:nvPr/>
          </p:nvPicPr>
          <p:blipFill>
            <a:blip r:embed="rId5"/>
            <a:stretch/>
          </p:blipFill>
          <p:spPr>
            <a:xfrm>
              <a:off x="212760" y="4211640"/>
              <a:ext cx="13111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22120" y="4219560"/>
              <a:ext cx="11718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Funzio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corpo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Text Box 9"/>
          <p:cNvGrpSpPr/>
          <p:nvPr/>
        </p:nvGrpSpPr>
        <p:grpSpPr>
          <a:xfrm>
            <a:off x="2981160" y="5467320"/>
            <a:ext cx="1279800" cy="549360"/>
            <a:chOff x="2981160" y="5467320"/>
            <a:chExt cx="1279800" cy="549360"/>
          </a:xfrm>
        </p:grpSpPr>
        <p:pic>
          <p:nvPicPr>
            <p:cNvPr id="202" name="Text Box 9" descr=""/>
            <p:cNvPicPr/>
            <p:nvPr/>
          </p:nvPicPr>
          <p:blipFill>
            <a:blip r:embed="rId6"/>
            <a:stretch/>
          </p:blipFill>
          <p:spPr>
            <a:xfrm>
              <a:off x="2981160" y="5467320"/>
              <a:ext cx="12798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984400" y="5475240"/>
              <a:ext cx="11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Capacit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Text Box 11"/>
          <p:cNvGrpSpPr/>
          <p:nvPr/>
        </p:nvGrpSpPr>
        <p:grpSpPr>
          <a:xfrm>
            <a:off x="615960" y="5510160"/>
            <a:ext cx="2004840" cy="542880"/>
            <a:chOff x="615960" y="5510160"/>
            <a:chExt cx="2004840" cy="542880"/>
          </a:xfrm>
        </p:grpSpPr>
        <p:pic>
          <p:nvPicPr>
            <p:cNvPr id="205" name="Text Box 11" descr=""/>
            <p:cNvPicPr/>
            <p:nvPr/>
          </p:nvPicPr>
          <p:blipFill>
            <a:blip r:embed="rId7"/>
            <a:stretch/>
          </p:blipFill>
          <p:spPr>
            <a:xfrm>
              <a:off x="615960" y="5510160"/>
              <a:ext cx="20048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22440" y="5516640"/>
              <a:ext cx="19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Modificazio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Text Box 12"/>
          <p:cNvGrpSpPr/>
          <p:nvPr/>
        </p:nvGrpSpPr>
        <p:grpSpPr>
          <a:xfrm>
            <a:off x="4383000" y="5467320"/>
            <a:ext cx="1798560" cy="549360"/>
            <a:chOff x="4383000" y="5467320"/>
            <a:chExt cx="1798560" cy="549360"/>
          </a:xfrm>
        </p:grpSpPr>
        <p:pic>
          <p:nvPicPr>
            <p:cNvPr id="208" name="Text Box 12" descr=""/>
            <p:cNvPicPr/>
            <p:nvPr/>
          </p:nvPicPr>
          <p:blipFill>
            <a:blip r:embed="rId8"/>
            <a:stretch/>
          </p:blipFill>
          <p:spPr>
            <a:xfrm>
              <a:off x="4383000" y="5467320"/>
              <a:ext cx="1798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390920" y="547524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Text Box 13"/>
          <p:cNvGrpSpPr/>
          <p:nvPr/>
        </p:nvGrpSpPr>
        <p:grpSpPr>
          <a:xfrm>
            <a:off x="6181560" y="4181400"/>
            <a:ext cx="1530360" cy="871560"/>
            <a:chOff x="6181560" y="4181400"/>
            <a:chExt cx="1530360" cy="871560"/>
          </a:xfrm>
        </p:grpSpPr>
        <p:pic>
          <p:nvPicPr>
            <p:cNvPr id="211" name="Text Box 13" descr=""/>
            <p:cNvPicPr/>
            <p:nvPr/>
          </p:nvPicPr>
          <p:blipFill>
            <a:blip r:embed="rId9"/>
            <a:stretch/>
          </p:blipFill>
          <p:spPr>
            <a:xfrm>
              <a:off x="6181560" y="4181400"/>
              <a:ext cx="15303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186600" y="4186080"/>
              <a:ext cx="1422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Fatto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Ambient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Text Box 14"/>
          <p:cNvGrpSpPr/>
          <p:nvPr/>
        </p:nvGrpSpPr>
        <p:grpSpPr>
          <a:xfrm>
            <a:off x="7772400" y="4181400"/>
            <a:ext cx="1359000" cy="817560"/>
            <a:chOff x="7772400" y="4181400"/>
            <a:chExt cx="1359000" cy="817560"/>
          </a:xfrm>
        </p:grpSpPr>
        <p:pic>
          <p:nvPicPr>
            <p:cNvPr id="214" name="Text Box 14" descr=""/>
            <p:cNvPicPr/>
            <p:nvPr/>
          </p:nvPicPr>
          <p:blipFill>
            <a:blip r:embed="rId10"/>
            <a:stretch/>
          </p:blipFill>
          <p:spPr>
            <a:xfrm>
              <a:off x="7772400" y="4181400"/>
              <a:ext cx="135900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780320" y="4186080"/>
              <a:ext cx="12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Fattori Person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Text Box 15"/>
          <p:cNvGrpSpPr/>
          <p:nvPr/>
        </p:nvGrpSpPr>
        <p:grpSpPr>
          <a:xfrm>
            <a:off x="6364440" y="5400720"/>
            <a:ext cx="1725480" cy="981000"/>
            <a:chOff x="6364440" y="5400720"/>
            <a:chExt cx="1725480" cy="981000"/>
          </a:xfrm>
        </p:grpSpPr>
        <p:pic>
          <p:nvPicPr>
            <p:cNvPr id="217" name="Text Box 15" descr=""/>
            <p:cNvPicPr/>
            <p:nvPr/>
          </p:nvPicPr>
          <p:blipFill>
            <a:blip r:embed="rId11"/>
            <a:stretch/>
          </p:blipFill>
          <p:spPr>
            <a:xfrm>
              <a:off x="6364440" y="5400720"/>
              <a:ext cx="17254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372360" y="5405400"/>
              <a:ext cx="163332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Facilitato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Barri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9" name="AutoShape 16"/>
          <p:cNvCxnSpPr/>
          <p:nvPr/>
        </p:nvCxnSpPr>
        <p:spPr>
          <a:xfrm rot="5400000">
            <a:off x="3543120" y="1053000"/>
            <a:ext cx="527760" cy="205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AutoShape 17"/>
          <p:cNvCxnSpPr/>
          <p:nvPr/>
        </p:nvCxnSpPr>
        <p:spPr>
          <a:xfrm flipH="1" rot="16200000">
            <a:off x="5625000" y="1027800"/>
            <a:ext cx="523080" cy="2102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AutoShape 18"/>
          <p:cNvCxnSpPr/>
          <p:nvPr/>
        </p:nvCxnSpPr>
        <p:spPr>
          <a:xfrm flipH="1" flipV="1" rot="5400000">
            <a:off x="1407600" y="2847240"/>
            <a:ext cx="902520" cy="18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AutoShape 19"/>
          <p:cNvCxnSpPr/>
          <p:nvPr/>
        </p:nvCxnSpPr>
        <p:spPr>
          <a:xfrm flipH="1" flipV="1" rot="5400000">
            <a:off x="2026800" y="3466440"/>
            <a:ext cx="902520" cy="60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" name="AutoShape 20"/>
          <p:cNvCxnSpPr/>
          <p:nvPr/>
        </p:nvCxnSpPr>
        <p:spPr>
          <a:xfrm flipH="1" rot="16200000">
            <a:off x="3099240" y="2997360"/>
            <a:ext cx="918360" cy="1558080"/>
          </a:xfrm>
          <a:prstGeom prst="bentConnector3">
            <a:avLst>
              <a:gd name="adj1" fmla="val 4980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AutoShape 21"/>
          <p:cNvCxnSpPr/>
          <p:nvPr/>
        </p:nvCxnSpPr>
        <p:spPr>
          <a:xfrm rot="5400000">
            <a:off x="540360" y="5116320"/>
            <a:ext cx="791280" cy="3960"/>
          </a:xfrm>
          <a:prstGeom prst="bentConnector3">
            <a:avLst>
              <a:gd name="adj1" fmla="val 49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" name="AutoShape 22"/>
          <p:cNvCxnSpPr/>
          <p:nvPr/>
        </p:nvCxnSpPr>
        <p:spPr>
          <a:xfrm rot="5400000">
            <a:off x="1778760" y="5116320"/>
            <a:ext cx="791280" cy="3960"/>
          </a:xfrm>
          <a:prstGeom prst="bentConnector3">
            <a:avLst>
              <a:gd name="adj1" fmla="val 49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6" name="AutoShape 23"/>
          <p:cNvCxnSpPr/>
          <p:nvPr/>
        </p:nvCxnSpPr>
        <p:spPr>
          <a:xfrm flipH="1">
            <a:off x="3674880" y="4986360"/>
            <a:ext cx="473760" cy="489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AutoShape 24"/>
          <p:cNvCxnSpPr/>
          <p:nvPr/>
        </p:nvCxnSpPr>
        <p:spPr>
          <a:xfrm>
            <a:off x="4587840" y="4986360"/>
            <a:ext cx="372240" cy="489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AutoShape 25"/>
          <p:cNvCxnSpPr/>
          <p:nvPr/>
        </p:nvCxnSpPr>
        <p:spPr>
          <a:xfrm rot="5400000">
            <a:off x="6572160" y="3729600"/>
            <a:ext cx="907200" cy="6840"/>
          </a:xfrm>
          <a:prstGeom prst="bentConnector3">
            <a:avLst>
              <a:gd name="adj1" fmla="val 499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AutoShape 26"/>
          <p:cNvCxnSpPr/>
          <p:nvPr/>
        </p:nvCxnSpPr>
        <p:spPr>
          <a:xfrm flipH="1" rot="16200000">
            <a:off x="7263360" y="3044520"/>
            <a:ext cx="907200" cy="1377000"/>
          </a:xfrm>
          <a:prstGeom prst="bentConnector3">
            <a:avLst>
              <a:gd name="adj1" fmla="val 499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AutoShape 27"/>
          <p:cNvCxnSpPr/>
          <p:nvPr/>
        </p:nvCxnSpPr>
        <p:spPr>
          <a:xfrm flipH="1" rot="16200000">
            <a:off x="6776280" y="5156640"/>
            <a:ext cx="491040" cy="720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31" name="Text Box 3"/>
          <p:cNvGrpSpPr/>
          <p:nvPr/>
        </p:nvGrpSpPr>
        <p:grpSpPr>
          <a:xfrm>
            <a:off x="2809800" y="890640"/>
            <a:ext cx="4041720" cy="1150920"/>
            <a:chOff x="2809800" y="890640"/>
            <a:chExt cx="4041720" cy="1150920"/>
          </a:xfrm>
        </p:grpSpPr>
        <p:pic>
          <p:nvPicPr>
            <p:cNvPr id="232" name="Text Box 3" descr=""/>
            <p:cNvPicPr/>
            <p:nvPr/>
          </p:nvPicPr>
          <p:blipFill>
            <a:blip r:embed="rId12"/>
            <a:stretch/>
          </p:blipFill>
          <p:spPr>
            <a:xfrm>
              <a:off x="2809800" y="890640"/>
              <a:ext cx="40417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984400" y="1033560"/>
              <a:ext cx="37004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IC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MODELLO BIO-PSICO-SOCI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7"/>
          <p:cNvSpPr/>
          <p:nvPr/>
        </p:nvSpPr>
        <p:spPr>
          <a:xfrm>
            <a:off x="216000" y="235080"/>
            <a:ext cx="636480" cy="590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ccia a destra 1"/>
          <p:cNvSpPr/>
          <p:nvPr/>
        </p:nvSpPr>
        <p:spPr>
          <a:xfrm>
            <a:off x="8405640" y="5703840"/>
            <a:ext cx="433440" cy="1825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1011240" y="293760"/>
            <a:ext cx="6899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Il linguaggio usato nella documentazione- I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419040" y="1228680"/>
            <a:ext cx="7345440" cy="438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2520" indent="-64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«Successivamente all’accertamento della situazione di disabilità … è reda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64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n profilo di funziona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64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condo i criteri del modello bio-psico-sociale della Classificazione Internazionale del Funzionamento della Disabilità e della salute (ICF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64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ottato dall’Organizzazione Mondiale della Sanità (OMS) ai fini della formulazione del progetto individuale … nonché per la predisposizione del Piano Educativo Individualizzato (PE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64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[Tratto da: Decreto Legislativo n. 66 del 2017 «Norme per la promozione dell’inclusione scolastica degli alunni con disabilità»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51000" y="244440"/>
            <a:ext cx="510840" cy="507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1023840" y="295200"/>
            <a:ext cx="689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Il linguaggio usato nella documentazione- I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2073240" y="1417680"/>
            <a:ext cx="5329440" cy="6094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3300"/>
                </a:solidFill>
                <a:latin typeface="Arial"/>
              </a:rPr>
              <a:t>Attività e partecip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6"/>
          <p:cNvGrpSpPr/>
          <p:nvPr/>
        </p:nvGrpSpPr>
        <p:grpSpPr>
          <a:xfrm>
            <a:off x="430200" y="2709720"/>
            <a:ext cx="8569080" cy="3313080"/>
            <a:chOff x="430200" y="2709720"/>
            <a:chExt cx="8569080" cy="3313080"/>
          </a:xfrm>
        </p:grpSpPr>
        <p:sp>
          <p:nvSpPr>
            <p:cNvPr id="242" name="Rectangle 7"/>
            <p:cNvSpPr/>
            <p:nvPr/>
          </p:nvSpPr>
          <p:spPr>
            <a:xfrm>
              <a:off x="574560" y="4365360"/>
              <a:ext cx="3887640" cy="57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95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9900"/>
                  </a:solidFill>
                  <a:latin typeface="Arial"/>
                </a:rPr>
                <a:t>Compiti e richieste genera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574560" y="2925360"/>
              <a:ext cx="3887640" cy="57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95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9900"/>
                  </a:solidFill>
                  <a:latin typeface="Arial"/>
                </a:rPr>
                <a:t>Mobilit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574560" y="3644640"/>
              <a:ext cx="3887640" cy="57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5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9900"/>
                  </a:solidFill>
                  <a:latin typeface="Arial"/>
                </a:rPr>
                <a:t>Cura della perso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574560" y="5084280"/>
              <a:ext cx="3887640" cy="64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5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9900"/>
                  </a:solidFill>
                  <a:latin typeface="Arial"/>
                </a:rPr>
                <a:t>Aree di vita principa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4967280" y="4292280"/>
              <a:ext cx="3887640" cy="57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95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9900"/>
                  </a:solidFill>
                  <a:latin typeface="Arial"/>
                </a:rPr>
                <a:t>Comunicazi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4967280" y="2925360"/>
              <a:ext cx="3887640" cy="1223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95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9900"/>
                  </a:solidFill>
                  <a:latin typeface="Arial"/>
                </a:rPr>
                <a:t>Apprendimento e applicazione delle conoscen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4967280" y="4941360"/>
              <a:ext cx="3887640" cy="79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95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9900"/>
                  </a:solidFill>
                  <a:latin typeface="Arial"/>
                </a:rPr>
                <a:t>Interazioni e relazioni interpersona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430200" y="2709720"/>
              <a:ext cx="8569080" cy="3313080"/>
            </a:xfrm>
            <a:prstGeom prst="rect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95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AutoShape 15"/>
          <p:cNvSpPr/>
          <p:nvPr/>
        </p:nvSpPr>
        <p:spPr>
          <a:xfrm>
            <a:off x="4232160" y="2151000"/>
            <a:ext cx="863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065240" y="465120"/>
            <a:ext cx="7219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Descrivere il funzionamento dell’alunno - I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430200" y="474840"/>
            <a:ext cx="534960" cy="393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6"/>
          <p:cNvSpPr/>
          <p:nvPr/>
        </p:nvSpPr>
        <p:spPr>
          <a:xfrm>
            <a:off x="1531800" y="4048200"/>
            <a:ext cx="228600" cy="1577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040 h 1577880"/>
              <a:gd name="textAreaBottom" fmla="*/ 1536840 h 157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189000" y="4672080"/>
            <a:ext cx="1257120" cy="368280"/>
          </a:xfrm>
          <a:prstGeom prst="rect">
            <a:avLst/>
          </a:prstGeom>
          <a:gradFill rotWithShape="0">
            <a:gsLst>
              <a:gs pos="0">
                <a:srgbClr val="b9b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7c130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categ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6864480" y="2759040"/>
            <a:ext cx="1569960" cy="368280"/>
          </a:xfrm>
          <a:prstGeom prst="rect">
            <a:avLst/>
          </a:prstGeom>
          <a:gradFill rotWithShape="0">
            <a:gsLst>
              <a:gs pos="0">
                <a:srgbClr val="b9b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7c130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qualific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 flipH="1">
            <a:off x="7399440" y="3201840"/>
            <a:ext cx="699840" cy="42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901880" y="3686040"/>
          <a:ext cx="5967360" cy="2194200"/>
        </p:xfrm>
        <a:graphic>
          <a:graphicData uri="http://schemas.openxmlformats.org/drawingml/2006/table">
            <a:tbl>
              <a:tblPr/>
              <a:tblGrid>
                <a:gridCol w="4243320"/>
                <a:gridCol w="336600"/>
                <a:gridCol w="352440"/>
                <a:gridCol w="350640"/>
                <a:gridCol w="324000"/>
                <a:gridCol w="3603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Cura della pers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510 lavar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530 bisogni corpor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540 vestir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550 mangi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560 b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Text Box 11"/>
          <p:cNvSpPr/>
          <p:nvPr/>
        </p:nvSpPr>
        <p:spPr>
          <a:xfrm>
            <a:off x="390600" y="1235160"/>
            <a:ext cx="8362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er ciascuna categoria, il bambino ha qualche problem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[Indicare la gravità del problema secondo la seguente scala: 0=nessun problema; 1=problema lieve; 2=problema medio; 3=problema grave; 4=problema completo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tangolo 15"/>
          <p:cNvSpPr/>
          <p:nvPr/>
        </p:nvSpPr>
        <p:spPr>
          <a:xfrm>
            <a:off x="8599320" y="128520"/>
            <a:ext cx="378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1065240" y="465120"/>
            <a:ext cx="7219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Descrivere il funzionamento dell’alunno - I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430200" y="474840"/>
            <a:ext cx="534960" cy="393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08:48:00Z</dcterms:created>
  <dc:creator>Admin</dc:creator>
  <dc:description/>
  <dc:language>en-US</dc:language>
  <cp:lastModifiedBy>Renato Tomasella</cp:lastModifiedBy>
  <dcterms:modified xsi:type="dcterms:W3CDTF">2019-10-05T13:40:24Z</dcterms:modified>
  <cp:revision>359</cp:revision>
  <dc:subject/>
  <dc:title>Diapositiva 1</dc:title>
</cp:coreProperties>
</file>