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81713-93B7-458E-9C44-BD84BCCC3D33}" type="slidenum"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52E4-19D0-4AD8-A4C4-A675332A150D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0104-7ECA-48EF-BBA6-716C98773F4C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75DE-7CC0-4544-91E0-0C457EF218E1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F921-E2E4-4895-B5FE-4DA85AE104A1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83E0-2DB4-46B4-8ACA-947D5EE48AFA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F652-484A-489C-8594-73A3445C9A6C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6058-91C0-4687-B34F-70A2AA030FC6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5AD05-F0ED-48EE-99EF-5278F7FFD6C1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FD7B5-FE6B-4773-A12F-B3CD8B939243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E66F-B019-4754-A1AE-90676EAD96E6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5C62-CF71-44AB-A704-EA4D3B5CD887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8BCE-E721-4DA4-9452-659D0FFDC5B7}" type="slidenum">
              <a:rPr b="1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c79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c79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Line 2"/>
          <p:cNvSpPr/>
          <p:nvPr/>
        </p:nvSpPr>
        <p:spPr>
          <a:xfrm>
            <a:off x="6804000" y="2708280"/>
            <a:ext cx="0" cy="285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Line 40"/>
          <p:cNvSpPr/>
          <p:nvPr/>
        </p:nvSpPr>
        <p:spPr>
          <a:xfrm>
            <a:off x="304920" y="278136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2"/>
          <p:cNvSpPr/>
          <p:nvPr/>
        </p:nvSpPr>
        <p:spPr>
          <a:xfrm>
            <a:off x="1576440" y="4753080"/>
            <a:ext cx="52894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Produrre il  curricolo d’Istituto per discipl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1560600" y="3616200"/>
            <a:ext cx="51512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Conoscere le Indicazioni Nazionali come riferimento per la ideazione del Curricolo d’Istitu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542880" y="3686040"/>
            <a:ext cx="647640" cy="5954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0"/>
          <p:cNvSpPr/>
          <p:nvPr/>
        </p:nvSpPr>
        <p:spPr>
          <a:xfrm>
            <a:off x="528480" y="4638600"/>
            <a:ext cx="648000" cy="528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1" descr=""/>
          <p:cNvPicPr/>
          <p:nvPr/>
        </p:nvPicPr>
        <p:blipFill>
          <a:blip r:embed="rId1"/>
          <a:stretch/>
        </p:blipFill>
        <p:spPr>
          <a:xfrm>
            <a:off x="6991200" y="3244680"/>
            <a:ext cx="1768680" cy="19846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192240" y="352440"/>
            <a:ext cx="80802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Arial"/>
              </a:rPr>
              <a:t>Indicazioni nazionali per il curric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Arial"/>
              </a:rPr>
              <a:t>della scuola dell’infanzia e del primo ciclo d’istr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307800" y="1195560"/>
            <a:ext cx="83124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Anno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357120" y="2049480"/>
            <a:ext cx="82216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Finalità: costruire una comunità professionale che studia, condivide e speriment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334800" y="2986200"/>
            <a:ext cx="637092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OBIET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217440" y="176040"/>
            <a:ext cx="7721640" cy="463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LA SCUOLA DEL PRIMO CICLO: articolazione del curric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0" y="0"/>
            <a:ext cx="30178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174600" y="1235160"/>
            <a:ext cx="4078440" cy="6523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petenza chiave di cittadinanza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unicazione nella madreling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174600" y="1990800"/>
            <a:ext cx="2830680" cy="48020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Traguardi di Competen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’allievo partecipa a scambi comunicativi (conversazione, discussione di classe o di gruppo) con compagni e insegnanti rispettando il turno e formulando messaggi chiari e pertinenti, in un registro il più possibile adeguato alla situazio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2"/>
          <p:cNvSpPr/>
          <p:nvPr/>
        </p:nvSpPr>
        <p:spPr>
          <a:xfrm>
            <a:off x="189000" y="743040"/>
            <a:ext cx="7750080" cy="3888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lasse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erza  della scuola pri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3062160" y="1990800"/>
            <a:ext cx="2932200" cy="4788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bil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ndere la parola negli scambi comunicativi (dialogo, conversazione, discussione) rispettando i turni di pa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sporre in modo comprensibile a chi ascolta. il senso globale di testi ascolt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accontare storie personali o fantastiche rispettando l’ordine cronologico ed esplicitando le informazioni necessarie perché il racconto sia chiaro per chi ascol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6039000" y="1976400"/>
            <a:ext cx="2858760" cy="4788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oscen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rgomenti di uso quotidi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rgomenti di pertinenza disciplin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Regole del dialogo, conversazione e discuss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lementi caratteristici di testo narrativi ed esposi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esti narrativi brevi che riferiscono esperienze person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formazioni focali in un testo narra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Elementi caratteristici del testo narrativo reale e fantast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4297320" y="1235160"/>
            <a:ext cx="3686040" cy="6523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sciplina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tal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iscipline concorrenti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u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12"/>
          <p:cNvSpPr/>
          <p:nvPr/>
        </p:nvSpPr>
        <p:spPr>
          <a:xfrm>
            <a:off x="217440" y="176040"/>
            <a:ext cx="7721640" cy="463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LA SCUOLA DEL PRIMO CICLO: articolazione del curric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0" y="0"/>
            <a:ext cx="30178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189000" y="743040"/>
            <a:ext cx="7750080" cy="58989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dicazioni dI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endere in visione il testo delle Indicazioni Nazionali relativo alla propria discip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2. Compilare la tabella individuando i traguardi di competenza, le abilità e le conoscenze (contenu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La compilazione della tabella può essere fatta direttamente su file word, con le seguenti operazion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a. estrapolando direttamente dalle Indicazioni Nazionali i traguardi di competenza e le abilità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b. integrando con le proprie scelte la parte relativa alle conoscenze (contenut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1) Per quanto riguarda i traguardi di competenza e le abilità sono già esplicitati nelle indicazioni nazionali e sono prescrittivi, mentre le conoscenze (contenuti) sono espresse in modo generico e dovrebbero essere concordate dai docen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2) Compiliamo le schede prendendo in considerazione gli anni scolastici definiti dalle indicazioni nazionali. Successivamente si può procedere (se lo si ritiene opportuno) alla compilazione anche per gli anni intermed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2"/>
          <p:cNvSpPr/>
          <p:nvPr/>
        </p:nvSpPr>
        <p:spPr>
          <a:xfrm>
            <a:off x="217440" y="176040"/>
            <a:ext cx="7721640" cy="463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LA SCUOLA DEL PRIMO CICLO: articolazione del curric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0" y="0"/>
            <a:ext cx="30178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entagono 4"/>
          <p:cNvSpPr/>
          <p:nvPr/>
        </p:nvSpPr>
        <p:spPr>
          <a:xfrm>
            <a:off x="581040" y="1625760"/>
            <a:ext cx="7256520" cy="58140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581400"/>
              <a:gd name="textAreaBottom" fmla="*/ 581760 h 58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30" y="0"/>
                </a:lnTo>
                <a:lnTo>
                  <a:pt x="21600" y="10800"/>
                </a:lnTo>
                <a:lnTo>
                  <a:pt x="2073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rticolazione dei gruppi di lav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entagono 5"/>
          <p:cNvSpPr/>
          <p:nvPr/>
        </p:nvSpPr>
        <p:spPr>
          <a:xfrm>
            <a:off x="595440" y="2771640"/>
            <a:ext cx="7286400" cy="581400"/>
          </a:xfrm>
          <a:custGeom>
            <a:avLst/>
            <a:gdLst>
              <a:gd name="textAreaLeft" fmla="*/ 0 w 7286400"/>
              <a:gd name="textAreaRight" fmla="*/ 7286760 w 7286400"/>
              <a:gd name="textAreaTop" fmla="*/ 0 h 581400"/>
              <a:gd name="textAreaBottom" fmla="*/ 581760 h 58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33" y="0"/>
                </a:lnTo>
                <a:lnTo>
                  <a:pt x="21600" y="10800"/>
                </a:lnTo>
                <a:lnTo>
                  <a:pt x="2073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Testi di studio e confro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entagono 6"/>
          <p:cNvSpPr/>
          <p:nvPr/>
        </p:nvSpPr>
        <p:spPr>
          <a:xfrm>
            <a:off x="668160" y="3933720"/>
            <a:ext cx="7256520" cy="581400"/>
          </a:xfrm>
          <a:custGeom>
            <a:avLst/>
            <a:gdLst>
              <a:gd name="textAreaLeft" fmla="*/ 0 w 7256520"/>
              <a:gd name="textAreaRight" fmla="*/ 7256880 w 7256520"/>
              <a:gd name="textAreaTop" fmla="*/ 0 h 581400"/>
              <a:gd name="textAreaBottom" fmla="*/ 581760 h 58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30" y="0"/>
                </a:lnTo>
                <a:lnTo>
                  <a:pt x="21600" y="10800"/>
                </a:lnTo>
                <a:lnTo>
                  <a:pt x="2073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trumento di documen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2"/>
          <p:cNvSpPr/>
          <p:nvPr/>
        </p:nvSpPr>
        <p:spPr>
          <a:xfrm>
            <a:off x="2055960" y="3216240"/>
            <a:ext cx="52736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Analisi delle discipline come descritte nelle Indicazioni Naz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633680" y="4056120"/>
            <a:ext cx="54212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1" descr=""/>
          <p:cNvPicPr/>
          <p:nvPr/>
        </p:nvPicPr>
        <p:blipFill>
          <a:blip r:embed="rId1"/>
          <a:stretch/>
        </p:blipFill>
        <p:spPr>
          <a:xfrm>
            <a:off x="6991200" y="3244680"/>
            <a:ext cx="1768680" cy="198468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2"/>
          <p:cNvSpPr/>
          <p:nvPr/>
        </p:nvSpPr>
        <p:spPr>
          <a:xfrm>
            <a:off x="192240" y="352440"/>
            <a:ext cx="80802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Arial"/>
              </a:rPr>
              <a:t>Indicazioni nazionali per il curric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060"/>
                </a:solidFill>
                <a:latin typeface="Arial"/>
              </a:rPr>
              <a:t>della scuola dell’infanzia e del primo ciclo d’istr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307800" y="1195560"/>
            <a:ext cx="83124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2060"/>
                </a:solidFill>
                <a:latin typeface="Arial"/>
              </a:rPr>
              <a:t>Anno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270000" y="1817640"/>
            <a:ext cx="82216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Articolazione degli incont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2"/>
          <p:cNvSpPr/>
          <p:nvPr/>
        </p:nvSpPr>
        <p:spPr>
          <a:xfrm>
            <a:off x="247680" y="2303640"/>
            <a:ext cx="637056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Collegio Docenti: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BIETTIVI  A e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ttangolo 13"/>
          <p:cNvSpPr/>
          <p:nvPr/>
        </p:nvSpPr>
        <p:spPr>
          <a:xfrm>
            <a:off x="2054160" y="4073400"/>
            <a:ext cx="486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Produzione del curricolo per disciplina: traguardi di competenza, abilità e conoscenze (contenut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166680" y="3392640"/>
            <a:ext cx="1785960" cy="361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4/09/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195120" y="4335480"/>
            <a:ext cx="1785960" cy="363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8/09/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03040" y="5423040"/>
            <a:ext cx="1785960" cy="363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10/09/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ttangolo 13"/>
          <p:cNvSpPr/>
          <p:nvPr/>
        </p:nvSpPr>
        <p:spPr>
          <a:xfrm>
            <a:off x="2104920" y="5140440"/>
            <a:ext cx="486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Produzione del curricolo per disciplina: traguardi di competenza, abilità e conoscenze (contenut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2"/>
          <p:cNvSpPr/>
          <p:nvPr/>
        </p:nvSpPr>
        <p:spPr>
          <a:xfrm>
            <a:off x="617400" y="307800"/>
            <a:ext cx="5031000" cy="463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ff"/>
                </a:solidFill>
                <a:latin typeface="Arial"/>
              </a:rPr>
              <a:t>FINALITÀ GENE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676440" y="1349280"/>
            <a:ext cx="467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e scuole sono chiamate a elaborare il proprio curricol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sercitando così una parte decisiva dell’autonomia che la Repubblica attribuisce lor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065400" y="2682720"/>
            <a:ext cx="493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garantire a tutti i cittadini pari condizioni di accesso all’istruzione ed un servizio di qualità,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o Stato stabilisce le norme general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ui devono attenersi tutte le scuole, siano esse statali o paritari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23880" y="4509720"/>
            <a:ext cx="580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n le Indicazioni nazionali s’intendono fissare gl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gli obiettivi di apprendimento e i relativi traguardi per lo sviluppo delle competenz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ei bambini e ragazzi per ciascuna disciplina o campo di esperienz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2"/>
          <p:cNvSpPr/>
          <p:nvPr/>
        </p:nvSpPr>
        <p:spPr>
          <a:xfrm>
            <a:off x="404640" y="235080"/>
            <a:ext cx="5031000" cy="4633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ff"/>
                </a:solidFill>
                <a:latin typeface="Arial"/>
              </a:rPr>
              <a:t>FINALITÀ GENE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477720" y="2537280"/>
            <a:ext cx="7996320" cy="2562840"/>
          </a:xfrm>
          <a:prstGeom prst="rect">
            <a:avLst/>
          </a:prstGeom>
          <a:noFill/>
          <a:ln w="9360">
            <a:solidFill>
              <a:srgbClr val="664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omunicazione nella madrelingu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omunicazione nelle lingue stranier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competenza matematica e competenze di base in scienza e tecnologi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competenza digital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imparare a imparar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competenze sociali e civiche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spirito di iniziativa e imprenditorialità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b05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b050"/>
                </a:solidFill>
                <a:latin typeface="Arial"/>
                <a:ea typeface="Times New Roman"/>
              </a:rPr>
              <a:t>consapevolezza ed espressione culturale </a:t>
            </a:r>
            <a:r>
              <a:rPr b="1" lang="it-IT" sz="1100" spc="-1" strike="noStrike">
                <a:solidFill>
                  <a:srgbClr val="00b050"/>
                </a:solidFill>
                <a:latin typeface="Arial"/>
                <a:ea typeface="Times New Roman"/>
              </a:rPr>
              <a:t> 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431640" y="5265360"/>
            <a:ext cx="796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Tale processo non si esaurisce al termine del primo ciclo di istruzione, ma prosegue con l’estensione dell’obbligo di istruzione nel ciclo secondario e oltre, in una prospettiva d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educazione permanente, per tutto l’arco della vi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26880" y="871560"/>
            <a:ext cx="762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l sistema scolastico italiano assume com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rizzonte di riferiment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rso cui tendere il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dro delle competenze-chiave per l’apprendiment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manente definite dal Parlamento europeo e dal Consiglio dell’Unione europea (Raccomandazione del 18 dicembre 2006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[i]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2"/>
          <p:cNvSpPr/>
          <p:nvPr/>
        </p:nvSpPr>
        <p:spPr>
          <a:xfrm>
            <a:off x="493560" y="392040"/>
            <a:ext cx="7155000" cy="463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L’ORGANIZZAZIONE DEL CURRIC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"/>
          <p:cNvSpPr/>
          <p:nvPr/>
        </p:nvSpPr>
        <p:spPr>
          <a:xfrm>
            <a:off x="0" y="0"/>
            <a:ext cx="30178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960480" y="1284120"/>
            <a:ext cx="6923160" cy="4939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Traguardi per lo sviluppo delle compet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ccia a destra 6"/>
          <p:cNvSpPr/>
          <p:nvPr/>
        </p:nvSpPr>
        <p:spPr>
          <a:xfrm>
            <a:off x="484200" y="1312920"/>
            <a:ext cx="347760" cy="345960"/>
          </a:xfrm>
          <a:prstGeom prst="rightArrow">
            <a:avLst>
              <a:gd name="adj1" fmla="val 50000"/>
              <a:gd name="adj2" fmla="val 50260"/>
            </a:avLst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0"/>
          <p:cNvSpPr/>
          <p:nvPr/>
        </p:nvSpPr>
        <p:spPr>
          <a:xfrm>
            <a:off x="585720" y="2086560"/>
            <a:ext cx="7905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appresentano de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iferimenti ineludibili per gli insegnant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indicano piste culturali e didattiche da percorrere e aiutano a finalizzare l’azione educativa allo sviluppo integrale dell’allie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stituiscono criteri per la valutazione delle competenze att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1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Nella loro scansione temporale, sono prescrittiv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impegnando così le istituzione scolastiche affinché ogni alunno possa conseguirli, a garanzia dell’unità del sistema nazionale e della qualità del serviz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1"/>
          <p:cNvSpPr/>
          <p:nvPr/>
        </p:nvSpPr>
        <p:spPr>
          <a:xfrm>
            <a:off x="550800" y="5136840"/>
            <a:ext cx="790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scuole hanno l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ibertà e la responsabilità di organizzarsi e di scegliere l’itinerario più opportuno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consentire agli studenti il miglior conseguimento dei risulta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493560" y="392040"/>
            <a:ext cx="7155000" cy="463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L’ORGANIZZAZIONE DEL CURRIC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30178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960480" y="1268280"/>
            <a:ext cx="6923160" cy="4636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Obiettivi di appr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ccia a destra 6"/>
          <p:cNvSpPr/>
          <p:nvPr/>
        </p:nvSpPr>
        <p:spPr>
          <a:xfrm>
            <a:off x="542880" y="1297080"/>
            <a:ext cx="347760" cy="345960"/>
          </a:xfrm>
          <a:prstGeom prst="rightArrow">
            <a:avLst>
              <a:gd name="adj1" fmla="val 50000"/>
              <a:gd name="adj2" fmla="val 50260"/>
            </a:avLst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463680" y="2149200"/>
            <a:ext cx="781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 obiettivi di apprendimento individuan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bilità e conoscenze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itenute indispensabili al fine di raggiungere i traguardi per lo sviluppo delle competen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1"/>
          <p:cNvSpPr/>
          <p:nvPr/>
        </p:nvSpPr>
        <p:spPr>
          <a:xfrm>
            <a:off x="525600" y="3234240"/>
            <a:ext cx="75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 obiettivi son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rganizzati in nuclei tematici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e definiti in relazione a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eriodi didattici lungh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: l’inter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riennio della scuola dell’infanz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l’inter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quinquennio della scuola primari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, l’intero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riennio della scuola secondaria di primo grad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garantire una più efficace progressione degli apprendimenti nella scuola primaria gli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biettivi di italiano, lingua inglese e seconda lingua comunitaria, storia, geografia, matematica e scienze sono indicati anche al termine della terza class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2"/>
          <p:cNvSpPr/>
          <p:nvPr/>
        </p:nvSpPr>
        <p:spPr>
          <a:xfrm>
            <a:off x="493560" y="495360"/>
            <a:ext cx="7155000" cy="4633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LA SCUOLA DEL PRIMO CI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0" y="0"/>
            <a:ext cx="30178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2"/>
          <p:cNvSpPr/>
          <p:nvPr/>
        </p:nvSpPr>
        <p:spPr>
          <a:xfrm>
            <a:off x="479520" y="1192320"/>
            <a:ext cx="6967440" cy="4777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lle discipline alle competenze-chi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ttangolo 15"/>
          <p:cNvSpPr/>
          <p:nvPr/>
        </p:nvSpPr>
        <p:spPr>
          <a:xfrm>
            <a:off x="2925720" y="2405160"/>
            <a:ext cx="3264120" cy="642600"/>
          </a:xfrm>
          <a:prstGeom prst="rect">
            <a:avLst/>
          </a:prstGeom>
          <a:solidFill>
            <a:srgbClr val="ffc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Obiettivi di apprend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Arial"/>
              </a:rPr>
              <a:t>(Abilità e conoscenz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ttangolo 16"/>
          <p:cNvSpPr/>
          <p:nvPr/>
        </p:nvSpPr>
        <p:spPr>
          <a:xfrm>
            <a:off x="2925720" y="3579840"/>
            <a:ext cx="3243240" cy="64260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Traguardi di compet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ttangolo 17"/>
          <p:cNvSpPr/>
          <p:nvPr/>
        </p:nvSpPr>
        <p:spPr>
          <a:xfrm>
            <a:off x="2916360" y="4802040"/>
            <a:ext cx="3282840" cy="642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Competenze-chiav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 cittadina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ccia in giù 19"/>
          <p:cNvSpPr/>
          <p:nvPr/>
        </p:nvSpPr>
        <p:spPr>
          <a:xfrm>
            <a:off x="4349880" y="3164040"/>
            <a:ext cx="384120" cy="3078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ccia in giù 20"/>
          <p:cNvSpPr/>
          <p:nvPr/>
        </p:nvSpPr>
        <p:spPr>
          <a:xfrm>
            <a:off x="4336920" y="4356000"/>
            <a:ext cx="385920" cy="3081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2048040" y="2271600"/>
            <a:ext cx="4956120" cy="204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12"/>
          <p:cNvSpPr/>
          <p:nvPr/>
        </p:nvSpPr>
        <p:spPr>
          <a:xfrm>
            <a:off x="493560" y="495360"/>
            <a:ext cx="7155000" cy="4633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LA SCUOLA DEL PRIMO CI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0" y="0"/>
            <a:ext cx="30178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479520" y="1192320"/>
            <a:ext cx="6967440" cy="4777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alle discipline alle competenze-chi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19120" y="2001960"/>
          <a:ext cx="7767720" cy="3479760"/>
        </p:xfrm>
        <a:graphic>
          <a:graphicData uri="http://schemas.openxmlformats.org/drawingml/2006/table">
            <a:tbl>
              <a:tblPr/>
              <a:tblGrid>
                <a:gridCol w="3882960"/>
                <a:gridCol w="3884760"/>
              </a:tblGrid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iettivi di apprendi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ciplinar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guardi di compet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80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e Ter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uola Prim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e Quin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uola Prim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e Quin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uola Prima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e Ter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uola Secondar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 Primo G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e Ter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uola Secondar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 Primo Gr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52600" y="6045120"/>
          <a:ext cx="7754760" cy="463680"/>
        </p:xfrm>
        <a:graphic>
          <a:graphicData uri="http://schemas.openxmlformats.org/drawingml/2006/table">
            <a:tbl>
              <a:tblPr/>
              <a:tblGrid>
                <a:gridCol w="775476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etenze chiave-di cittadina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142" name="Freccia a destra 7"/>
          <p:cNvSpPr/>
          <p:nvPr/>
        </p:nvSpPr>
        <p:spPr>
          <a:xfrm rot="5400000">
            <a:off x="3749040" y="3438360"/>
            <a:ext cx="31752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ccia a destra 12"/>
          <p:cNvSpPr/>
          <p:nvPr/>
        </p:nvSpPr>
        <p:spPr>
          <a:xfrm>
            <a:off x="4295880" y="3936960"/>
            <a:ext cx="31752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ccia a destra 13"/>
          <p:cNvSpPr/>
          <p:nvPr/>
        </p:nvSpPr>
        <p:spPr>
          <a:xfrm>
            <a:off x="4294080" y="4773600"/>
            <a:ext cx="31752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ccia a destra 7"/>
          <p:cNvSpPr/>
          <p:nvPr/>
        </p:nvSpPr>
        <p:spPr>
          <a:xfrm rot="5400000">
            <a:off x="3768120" y="4286160"/>
            <a:ext cx="31752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ccia a destra 7"/>
          <p:cNvSpPr/>
          <p:nvPr/>
        </p:nvSpPr>
        <p:spPr>
          <a:xfrm rot="5400000">
            <a:off x="4236480" y="5555880"/>
            <a:ext cx="317520" cy="428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2"/>
          <p:cNvSpPr/>
          <p:nvPr/>
        </p:nvSpPr>
        <p:spPr>
          <a:xfrm>
            <a:off x="493560" y="495360"/>
            <a:ext cx="7155000" cy="4633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LA SCUOLA DEL PRIMO CIC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2"/>
          <p:cNvSpPr/>
          <p:nvPr/>
        </p:nvSpPr>
        <p:spPr>
          <a:xfrm>
            <a:off x="0" y="0"/>
            <a:ext cx="30178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479520" y="1192320"/>
            <a:ext cx="7153200" cy="65556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alle discipline alle competenze-chi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Esempio per Italiano – Classe Terza Pri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55680" y="2049480"/>
          <a:ext cx="8297640" cy="4394160"/>
        </p:xfrm>
        <a:graphic>
          <a:graphicData uri="http://schemas.openxmlformats.org/drawingml/2006/table">
            <a:tbl>
              <a:tblPr/>
              <a:tblGrid>
                <a:gridCol w="2695320"/>
                <a:gridCol w="2752920"/>
                <a:gridCol w="2849400"/>
              </a:tblGrid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biettivo di apprendimen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ciplin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guardo di compet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petenza chia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345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ndere la parola negli scambi comunicativi (dialogo, conversazione, discussione) rispettando i turni di parola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’allievo partecipa a scambi comunicativi (conversazione, discussione di classe o di gruppo) con compagni e insegnanti rispettando il turno e formulando messaggi chiari e pertinenti, in un registro il più possibile adeguato alla situa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persona ha la capacità di esprimere e interpretare concetti, pensieri, sentimenti, fatti e opinioni in forma sia orale sia scritta e di interagire adeguatamente e in modo creativo sul piano linguistico in un’intera gamma di contesti culturali e sociali, quali istruzione e formazione, lavoro, vita domestica e tempo liber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08:48:00Z</dcterms:created>
  <dc:creator>Admin</dc:creator>
  <dc:description/>
  <dc:language>en-US</dc:language>
  <cp:lastModifiedBy>dsga</cp:lastModifiedBy>
  <dcterms:modified xsi:type="dcterms:W3CDTF">2015-09-01T09:52:13Z</dcterms:modified>
  <cp:revision>422</cp:revision>
  <dc:subject/>
  <dc:title>Diapositiva 1</dc:title>
</cp:coreProperties>
</file>